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88C0-DB65-4825-ACD1-864C4366AEE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30F9-3BB0-49BB-8183-1018590F3A0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450-B43D-4301-9EAB-B9467499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F7C-A297-4D3C-89C3-69A5D77D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5F4-8227-401C-8CB7-DB69B7DF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900-8287-4446-8E15-E88D7DEB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29A5-B2FC-428E-991D-89BC5963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53A8-5ECE-44B2-B0DE-4DCC9940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9C83-D297-4853-A4EA-F4473E6B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D805-722F-4CB8-B22E-4BB9CA60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ED82-208F-49D4-B305-1FEE54FF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C2E4-E3C5-4BED-A44A-874C8761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53E7-E7EE-432B-BBF6-404E096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620-E5F6-48AA-B886-C48E8FC4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7035-10A4-4366-AC2C-0D48BCB2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502A-556F-4C51-87AD-5B612CCF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8F85-CE48-4D3B-9225-7BC15561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A804-4118-479E-AD1A-EC0F8BB6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ACBB-4A33-4739-8246-264E4DA7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A6B9-D0BE-41BB-90AE-9B32B4D2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3EBA7-E50C-47C9-BF9F-847BEDA0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A8D29-B1FA-4D1B-ABE8-7C5B9B57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47FE4-E21D-4933-A634-7060787B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D6B31-9BC8-481C-A564-20C40939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BEB-EB5D-4240-AB1F-F26D615C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22384-6500-4C09-9860-E70262C1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AB2FB-495C-4745-894D-2F841CF2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A37F4-B34C-46F3-A23F-F99BAB1A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1459B-CF68-4E89-89DE-B613A2B8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FA124-A612-428C-8132-93AE2D7D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1A1E1-5524-4B58-9C07-89111D4B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E9EAC-5A38-439C-A93D-562115DF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CD0EE-0187-490C-B5DF-425F1B30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6881A-05D1-4C69-8703-8A147C30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36C68-29C8-4B24-8490-2831E4AB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4EB-72FE-481F-9DFE-8B18786C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17779-301A-469D-944C-24008915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9D682-F4A9-4E16-BE66-4E768A6C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51695-2546-4C2F-8CCD-8ACAC3C3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A9382-0E3F-4021-B771-36F1323F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F180C-BA5B-49C3-866A-DA37A70B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167C5-6624-4753-85AA-9212CA2B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F2355-F5EF-4EE1-8CEE-023A67ED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4F046-F55C-42A5-9963-15F2F833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55C9F-B456-4BC0-9194-362A682E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7B3-CB8E-4108-B91B-559B6D34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ABA-FCD7-4A69-A045-C6D90A51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C92-D197-434F-B547-94F26063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E3F-1D8D-4E12-8311-5A35135D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E8A-75E7-4E62-9B7E-2804ABB9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63A9-34EE-45A6-84EB-869F4D3EC655}" type="slidenum">
              <a:rPr b="0" lang="ru-RU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6AB7-FB48-45FB-AE71-9EBA5BCFFBF5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1808-6E0B-4716-B104-D86E21A4D681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3145-A153-4057-A99A-95F62EB2EF42}" type="slidenum">
              <a:rPr b="0" lang="ru-RU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1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5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1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1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1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2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1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4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50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56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1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7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8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9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9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1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0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1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1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1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3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4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4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1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6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9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2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12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4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5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5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4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09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4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9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9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1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1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2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1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0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8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5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6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8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Елена Александровна Бронникова</cp:lastModifiedBy>
  <cp:lastPrinted>2016-12-07T09:58:05Z</cp:lastPrinted>
  <dcterms:modified xsi:type="dcterms:W3CDTF">2020-12-09T01:33:50Z</dcterms:modified>
  <cp:revision>5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