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104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10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2456-B547-4999-9EEF-F03A38270A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C5D12-69D9-4C6B-91D3-94881BE104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AA615-29EC-4FE5-9231-8DFE43A05C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9BE24-7961-497E-AD21-5A27BFCAE7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F48D4-1CEF-4F25-B463-ACA19687CA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02C08-A231-4875-A404-3C529B2CEC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6FC46-A78A-4355-8D3F-120DC645C9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E8E57-6F20-4CFC-917F-B3DDA39846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A2ABB-DB80-4C77-9592-185754D6D6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3C5CF-E583-4E75-8FE4-9F27CF137B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C074E-860B-49A0-887A-9BBD5B7F95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A54F1-AC67-4226-9313-BC6EC55A41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E1161-30B6-4DE7-878A-B1C1D63902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FCD1E-EBD5-4219-8442-D272E25607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6A1A6-91A7-4E2C-8DFE-AF2CB78A78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3965C-03B0-41B4-BB20-1CD5B6DAB8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CF300-B964-486C-BE04-91F387DB8C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D267E-4B03-4A72-9B6A-12B456916F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9322D-2CED-48B7-B19D-2A9D6ECF7C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4CA72-BEBF-4F4C-9ED5-7D2963BC88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00274-7FC5-48F0-8F75-8334BE732F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6C311-D5B3-428A-A08C-3F4D36300A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4B7F8-8D5D-48EC-811A-24079B7864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09F9D-7BDC-4302-8E72-ED0DED868F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1713F-C3FD-4889-AEEC-DB5A6FC067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1AF5-2211-45AF-97ED-F51076C5D1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598B5-736D-4FD2-B4AE-2C1B497B6E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D550D-5869-4A7D-B5E1-1AF26F15ED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D7B84-F11A-4C03-B32D-56BF83A469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C1664-103E-40A2-9881-7F752D6EFE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5AE0F-CAB6-4A1B-8411-BDF198943B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9C244-4868-4867-9BA6-42A8A636B7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84A55-FD46-49F9-BC75-35CDC97B9C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110D8-FBA3-4057-A112-AC77B836BD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2F669-7524-4581-ADA1-E5B6AF2E88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AAA87-0DF7-442A-909B-4DD0E932F9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951DD-FBCB-4897-8DDA-0E30A79971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7D36A-52EE-4C45-8B6A-D1C00FE710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92A22-8DC9-4161-B415-7CF9A023AA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58F4C-D2F8-4CCE-8E87-82295E0D12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A9F0D-FC4B-43A0-ABAA-E0B1FCBF7E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1C444-7AE9-461B-A824-BA2662B05A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E06BB-9CB8-4AE1-B9CB-7FB5D3AEA6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0ED0C-79B4-42B4-94B6-EA8CA45222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165AF-AB18-45CF-9AF1-71AD0837C0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46F9-24E6-4FCB-84CC-479CB40A7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1E9C-1FBA-4328-9B98-352E07270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ED78-4074-4B85-97D8-420837348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C9DC-3D26-4BA8-B03B-79FEBEF40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546C-058F-4DA0-A631-2003779A1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B54F-C85A-402F-911D-A2995E7E5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90D2-47C4-4623-B4B4-CC04C0172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E35D-7D09-4BE4-A226-E63B69E7F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4761-59C7-4EDC-AA0F-A42CA2278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B291-EC65-418C-ACA1-2705BCAF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EC8F-977C-4F7B-A973-2FF339E5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68B6-FB25-4C01-AA7D-A7E00D2F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CE6C8-FEA4-4A57-A751-D541EA722B5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357120"/>
            <a:ext cx="8640720" cy="566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Times New Roman"/>
              </a:rPr>
              <a:t>Заполнение формы отраслевого статистического наблюдения № 14дс «Сведения о деятельности дневных стационаров медицинских организаций» за 2020 год.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1628640"/>
          <a:ext cx="8229600" cy="5004000"/>
        </p:xfrm>
        <a:graphic>
          <a:graphicData uri="http://schemas.openxmlformats.org/drawingml/2006/table">
            <a:tbl>
              <a:tblPr/>
              <a:tblGrid>
                <a:gridCol w="1297080"/>
                <a:gridCol w="503280"/>
                <a:gridCol w="950760"/>
                <a:gridCol w="1096920"/>
                <a:gridCol w="1095480"/>
                <a:gridCol w="1095480"/>
                <a:gridCol w="1095120"/>
                <a:gridCol w="1095480"/>
              </a:tblGrid>
              <a:tr h="548280">
                <a:tc row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, включая стационары на до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е медицинские работник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кий персона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148428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у 1000 заполняют все медицинские организации, имеющие дневные стационары, в соответствии со штатным расписанием, утвержденным руководителем медицинской организации в установленном порядке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штатных и занятых должностях показываются как целыми, так и дробными числами (0,25, 0,5 и 0,75 должности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физических лицах заполняются целыми числам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. Должности и физические лица дневных стационаров медицинской организаци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ах 5, 8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Число физических лиц» показывают только основных работников, имеющих трудовую книжку в данной медицинской организации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их совместителей в данные графы не включают, внутренних совместителей показывают как физические лица только один раз на основной занимаемой должност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23640" y="1599840"/>
            <a:ext cx="85690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5 (всего) должна быть равна сумме строк 1, 2, 3, 4 по графам 3, 4, 5, 6, 7, 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Содержимое 2"/>
          <p:cNvSpPr/>
          <p:nvPr/>
        </p:nvSpPr>
        <p:spPr>
          <a:xfrm>
            <a:off x="212760" y="1197000"/>
            <a:ext cx="882324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ой стационар медицинской организации, оказывающей помощь в стационарных услов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штатных должностей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3=141.1000.1.03+141.1000.2.03+141.1000.3.03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3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занятых дол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4=141.1000.1.04+141.1000.2.04+141.1000.3.04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4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физических лиц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5=141.1000.1.05+141.1000.2.05+141.1000.3.05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5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Содержимое 2"/>
          <p:cNvSpPr/>
          <p:nvPr/>
        </p:nvSpPr>
        <p:spPr>
          <a:xfrm>
            <a:off x="217440" y="1197000"/>
            <a:ext cx="87519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ой стационар медицинской организации, оказывающей помощь в амбулаторных условиях, включая стационары на дому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штатных дол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6=141.1000.1.06 + 141.1000.2.06 +141.1000.3.06+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6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занятых дол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7=141.1000.1.07 + 141.1000.2.07 +141.1000.3.07+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7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физических лиц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8=141.1000.1.08 + 141.1000.2.08 +141.1000.3.08+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8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1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95280" y="1268280"/>
            <a:ext cx="8291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дневных стационаров для взрослых 1._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1 = 30.1001.16.0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1.=47.0650.46.04+47.0650.51.04+47.0660.46.04+47.0660.51.0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1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дневных стационаров для детей 2.____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2 = 30.1001.17.04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2 = 47.0650.46.05+47.0650.51.05 + 47.0660.46.05+47.0660.51.05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79280" y="1484280"/>
          <a:ext cx="8496360" cy="5099040"/>
        </p:xfrm>
        <a:graphic>
          <a:graphicData uri="http://schemas.openxmlformats.org/drawingml/2006/table">
            <a:tbl>
              <a:tblPr/>
              <a:tblGrid>
                <a:gridCol w="647640"/>
                <a:gridCol w="432000"/>
                <a:gridCol w="541440"/>
                <a:gridCol w="539640"/>
                <a:gridCol w="539640"/>
                <a:gridCol w="540000"/>
                <a:gridCol w="647640"/>
                <a:gridCol w="720720"/>
                <a:gridCol w="647640"/>
                <a:gridCol w="647640"/>
                <a:gridCol w="576360"/>
                <a:gridCol w="720720"/>
                <a:gridCol w="647640"/>
                <a:gridCol w="647640"/>
              </a:tblGrid>
              <a:tr h="642960"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0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-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-собного 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собно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л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до-в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до-в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0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95280" y="1628640"/>
          <a:ext cx="8497800" cy="4853160"/>
        </p:xfrm>
        <a:graphic>
          <a:graphicData uri="http://schemas.openxmlformats.org/drawingml/2006/table">
            <a:tbl>
              <a:tblPr/>
              <a:tblGrid>
                <a:gridCol w="649440"/>
                <a:gridCol w="431640"/>
                <a:gridCol w="539640"/>
                <a:gridCol w="541440"/>
                <a:gridCol w="539640"/>
                <a:gridCol w="540000"/>
                <a:gridCol w="647640"/>
                <a:gridCol w="720720"/>
                <a:gridCol w="647640"/>
                <a:gridCol w="647640"/>
                <a:gridCol w="576360"/>
                <a:gridCol w="720720"/>
                <a:gridCol w="647640"/>
                <a:gridCol w="647640"/>
              </a:tblGrid>
              <a:tr h="557280"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, включая стационары на до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-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до-в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до-в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-собного 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-собн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410320" cy="478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7531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Российской Федерации от 9 декабря 1999 г. № 438  «Об организации деятельности дневных стационаров в лечебно-профилактическом учреждении»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1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07960" y="1557360"/>
            <a:ext cx="82296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в дневном стационаре указывают в соответствии с приказом об организации данного структурного подразделения медицинской организаци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на конец года заполняется без учета сменности работы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реднегодовых коек заполняется с учетом сменности работы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реднегодовых коек указывается целыми числам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964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 по строке 49 «койки скорой медицинской помощи краткосрочного пребывания»  графам с 3 по 26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ить внимание, чтобы на койках для детей не указывались сведения о пациентах старше трудоспособного возраста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невных стационарах для детей не заполняются сведения о числе коек для взрослых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23800" y="191628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невных стационарах для взрослых не показываются сведения о числе коек для детей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невных стационарах для взрослых не указываются данные о числе выписанных детей до 3 лет и проведенными ими пациенто-дней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3320" y="58680"/>
            <a:ext cx="8713800" cy="9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00160" y="928800"/>
          <a:ext cx="8496000" cy="5742000"/>
        </p:xfrm>
        <a:graphic>
          <a:graphicData uri="http://schemas.openxmlformats.org/drawingml/2006/table">
            <a:tbl>
              <a:tblPr/>
              <a:tblGrid>
                <a:gridCol w="1079280"/>
                <a:gridCol w="412920"/>
                <a:gridCol w="647640"/>
                <a:gridCol w="503280"/>
                <a:gridCol w="504720"/>
                <a:gridCol w="503280"/>
                <a:gridCol w="576360"/>
                <a:gridCol w="720720"/>
                <a:gridCol w="576000"/>
                <a:gridCol w="576360"/>
                <a:gridCol w="503280"/>
                <a:gridCol w="720720"/>
                <a:gridCol w="647640"/>
                <a:gridCol w="523800"/>
              </a:tblGrid>
              <a:tr h="365400">
                <a:tc rowSpan="7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-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-не-годо-в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-него-дов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-собн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-собного 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77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-ческие для взросл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-ческие для де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патологии берем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некологические для взросл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-кие сомат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-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TextBox 5"/>
          <p:cNvSpPr/>
          <p:nvPr/>
        </p:nvSpPr>
        <p:spPr>
          <a:xfrm>
            <a:off x="2898720" y="3800520"/>
            <a:ext cx="100800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1820880" y="4219560"/>
            <a:ext cx="101592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4394160" y="421956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8"/>
          <p:cNvSpPr/>
          <p:nvPr/>
        </p:nvSpPr>
        <p:spPr>
          <a:xfrm>
            <a:off x="6858000" y="421488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9"/>
          <p:cNvSpPr/>
          <p:nvPr/>
        </p:nvSpPr>
        <p:spPr>
          <a:xfrm>
            <a:off x="6835680" y="46213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0"/>
          <p:cNvSpPr/>
          <p:nvPr/>
        </p:nvSpPr>
        <p:spPr>
          <a:xfrm>
            <a:off x="4394160" y="4695840"/>
            <a:ext cx="879480" cy="21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1"/>
          <p:cNvSpPr/>
          <p:nvPr/>
        </p:nvSpPr>
        <p:spPr>
          <a:xfrm>
            <a:off x="4500720" y="56437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2"/>
          <p:cNvSpPr/>
          <p:nvPr/>
        </p:nvSpPr>
        <p:spPr>
          <a:xfrm>
            <a:off x="6858000" y="56437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3"/>
          <p:cNvSpPr/>
          <p:nvPr/>
        </p:nvSpPr>
        <p:spPr>
          <a:xfrm>
            <a:off x="1816200" y="5629320"/>
            <a:ext cx="101592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4"/>
          <p:cNvSpPr/>
          <p:nvPr/>
        </p:nvSpPr>
        <p:spPr>
          <a:xfrm>
            <a:off x="2901960" y="6207120"/>
            <a:ext cx="101592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6"/>
          <p:cNvSpPr/>
          <p:nvPr/>
        </p:nvSpPr>
        <p:spPr>
          <a:xfrm>
            <a:off x="5643720" y="37861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7"/>
          <p:cNvSpPr/>
          <p:nvPr/>
        </p:nvSpPr>
        <p:spPr>
          <a:xfrm>
            <a:off x="8151840" y="375444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8"/>
          <p:cNvSpPr/>
          <p:nvPr/>
        </p:nvSpPr>
        <p:spPr>
          <a:xfrm>
            <a:off x="8070840" y="46465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9"/>
          <p:cNvSpPr/>
          <p:nvPr/>
        </p:nvSpPr>
        <p:spPr>
          <a:xfrm>
            <a:off x="8070840" y="6215040"/>
            <a:ext cx="836640" cy="21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0"/>
          <p:cNvSpPr/>
          <p:nvPr/>
        </p:nvSpPr>
        <p:spPr>
          <a:xfrm>
            <a:off x="5721480" y="616428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1"/>
          <p:cNvSpPr/>
          <p:nvPr/>
        </p:nvSpPr>
        <p:spPr>
          <a:xfrm>
            <a:off x="5721480" y="458136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2"/>
          <p:cNvSpPr/>
          <p:nvPr/>
        </p:nvSpPr>
        <p:spPr>
          <a:xfrm>
            <a:off x="5721480" y="510840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4"/>
          <p:cNvSpPr/>
          <p:nvPr/>
        </p:nvSpPr>
        <p:spPr>
          <a:xfrm>
            <a:off x="2832120" y="5118120"/>
            <a:ext cx="101592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5"/>
          <p:cNvSpPr/>
          <p:nvPr/>
        </p:nvSpPr>
        <p:spPr>
          <a:xfrm>
            <a:off x="8070840" y="508968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1 по графам 15-26 указываются сведения о числе коек, выписанных пациентах и проведенных ими пациенто-днях в дневных стационарах медицинских организаций, оказывающих помощь в амбулаторных условиях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я стационары на дом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ах 2 - 75 по графам 15-26 заполняются данные только о работе дневных стационаров медицинских  организаций, оказывающих помощь в амбулаторных условиях по профиля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стационаров на дом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294760" cy="21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каз Минэкономразвития России, Федеральный службы государственной статистики от 17 июля 2019 г. № 409 «Об утверждении методики определения возрастных групп населения»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2205000"/>
            <a:ext cx="8150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2020 году к населению старше   трудоспособного возраста относятс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женщины в возрасте 56 лет и старш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ужчины в возрасте 61 год и старш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8360" y="1331640"/>
            <a:ext cx="8229600" cy="53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для взрослых на конец года в дневных стационар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3. = 47.650.46.06. + 47.650.51.06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для детей на конец года в дневных стационар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5. = 47.650.46.07. + 47.650.51.07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7. = 47.650.46.08. + 47.650.51.08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лиц старше трудоспособного возраста из дневных стациона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8. = 47.650.46.09. + 47.650.51.09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8920" y="21420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71080" y="1214280"/>
            <a:ext cx="86058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 из дневных стационаров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9. = 47.650.46.10. + 47.650.51.10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до 3 лет из дневных стационаров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0. = 47.650.46.11. + 47.650.51.11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взрослыми в дневных стационара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1. = 47.650.46.12. + 47.650.51.12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8920" y="21420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74320" y="1082520"/>
            <a:ext cx="8605800" cy="556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лицами старше трудоспособного возраста в дневных стационара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2. = 47.650.46.13. + 47.650.51.13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(0-17 лет) в дневных стационара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3. = 47.650.46.14. + 47.650.51.14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до 3 лет в дневных стационара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4. = 47.650.46.15. + 47.650.51.15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3640" y="1484280"/>
            <a:ext cx="83739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условиях, включая стационары на дому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(мест) для взрослых на конец года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5. = 47.660.46.06. + 47.660.51.06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(мест) для детей на конец года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7. = 47.660.46.07. + 47.660.51.07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9. = 47.660.46.08. + 47.660.51.08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лиц старше трудоспособного возраста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0. = 47.660.46.09. + 47.660.51.09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невные стациона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23640" y="1500120"/>
            <a:ext cx="831996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структурные подразделения лечебно-профилактических учреждений, в том числе амбулаторно-поликлинических, больничных учреждений, клиник медицинских научно-исследовательских институтов и образовательных учреждений.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560" y="21420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24000" y="1196640"/>
            <a:ext cx="8300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условиях, включая стационары на дому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1. = 47.660.46.10. + 47.660.51.10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до 3 лет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2. = 47.660.46.11. + 47.660.51.11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взрослыми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3. = 47.660.46.12. + 47.660.51.12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560" y="21420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64600" y="1315800"/>
            <a:ext cx="83012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условиях, включая стационары на дому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лицами старше трудоспособного возраста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4. = 47.660.46.13. + 47.660.51.13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(0-17 лет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5. = 47.660.46.14. + 47.660.51.14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до 3 лет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6. = 47.660.46.15. + 47.660.51.15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рло в дневном стационаре при подразделениях медицинских организаций, оказывающих медицинскую помощь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ционарных условиях 1 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детей 2 ___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мбулаторных условиях, включая стационары на дому 3 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детей 4 ___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29340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8000" y="1268280"/>
            <a:ext cx="85359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(взрослых и детей) в дневном стационаре медицинских организаций, оказывающих помощь в стационарных условия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1.=141.3000.1.06.+141.3500.1.06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детей в дневном стационаре медицинских организаций, оказывающих помощь в стационарных условия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2.=141.3500.1.06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5840" y="42840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28400" y="1285560"/>
            <a:ext cx="853596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(взрослых и детей) в дневном стационаре медицинских организаций, оказывающих помощь в амбулаторных условиях, включая стационары на дом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3.=141.3000.1.09.+141.3500.1.09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детей в дневном стационаре медицинских организаций, оказывающих помощь в амбулаторных условиях, включая стационары на дом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4.=141.3500.1.09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2876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сельских жителей из дневных стационаров медицинских организаций, оказывающих медицинскую помощь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ционарных условиях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мбулаторных условиях, включая стационары на дому 2 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500040" y="785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ение пациентов в дневных стационарах, сроки и исходы ле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000. Дневные стационары для взрослых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28760" y="765000"/>
          <a:ext cx="8286480" cy="5961240"/>
        </p:xfrm>
        <a:graphic>
          <a:graphicData uri="http://schemas.openxmlformats.org/drawingml/2006/table">
            <a:tbl>
              <a:tblPr/>
              <a:tblGrid>
                <a:gridCol w="2666880"/>
                <a:gridCol w="276120"/>
                <a:gridCol w="552600"/>
                <a:gridCol w="722160"/>
                <a:gridCol w="814320"/>
                <a:gridCol w="695520"/>
                <a:gridCol w="931680"/>
                <a:gridCol w="812880"/>
                <a:gridCol w="814320"/>
              </a:tblGrid>
              <a:tr h="146160"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7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, включая стационары на дом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0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48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рови, кроветворных органов и отдельные нарушения, вовлекающие иммунный механиз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0-D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00-Е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нервн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глаза и его придаточного аппарат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0-H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уха и сосцевидного отрост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0-H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системы кровообращ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00-I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дых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пищевар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0-K9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жи и подкожной клетчат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стно-мышечной системы и соединительной тка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0-M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, пороки развития, деформации и хромосомные наруш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 рубрик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факторы, влияющие на состояние здоровья и обращения в учреждения здравоохра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3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ы для особых це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00-U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28760" y="1356840"/>
            <a:ext cx="822960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 (всего) должна быть равна сумме строк со 2 по 19 по графам с 4 по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21 «Коды для особых целей» указываются сведения о пациентах с коронавирусной инфекцией (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)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07.1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навирусная инфекция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ирус идентифицирован);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07.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навирусная инфекция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ирус не идентифицирован)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500. Дневные стационары для дете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14440" y="765000"/>
          <a:ext cx="8001000" cy="5793120"/>
        </p:xfrm>
        <a:graphic>
          <a:graphicData uri="http://schemas.openxmlformats.org/drawingml/2006/table">
            <a:tbl>
              <a:tblPr/>
              <a:tblGrid>
                <a:gridCol w="2544840"/>
                <a:gridCol w="288720"/>
                <a:gridCol w="590760"/>
                <a:gridCol w="718920"/>
                <a:gridCol w="865080"/>
                <a:gridCol w="648000"/>
                <a:gridCol w="693720"/>
                <a:gridCol w="825480"/>
                <a:gridCol w="825480"/>
              </a:tblGrid>
              <a:tr h="304920"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, включая стационары на дом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рови, кроветворных органов и отдельные нарушения, вовлекающие иммунный механиз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0-D8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00-Е9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нервн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глаза и его придаточного аппарат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0-H5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уха и сосцевидного отрост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0-H9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системы кровообращ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00-I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дых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9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пищевар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0-K9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жи и подкожной клетчат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стно-мышечной системы и соединительной тка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0-M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ьные состояния, возникающие в перинатальном период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00-P9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, пороки развития, деформации и хромосомные наруш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 рубрик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факторы, влияющие на состояние здоровья и обращения в учреждения здравоохра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ы для особых це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00-U8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организации дневных стационар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71320" y="185724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проведение профилактических, диагностических, лечебных и реабилитационных мероприятий пациентам, не требующим круглосуточного медицинского наблюдения, с применением современных технологий в соответствии со стандартами и протоколами ведения пациентов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28400" y="1356840"/>
            <a:ext cx="839124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 (всего) должна быть равна сумме строк со 2 по 20 по графам с 4 по 9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22 «Коды для особых целей» указываются сведения о пациентах с коронавирусной инфекцией (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)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07.1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навирусная инфекция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ирус идентифицирован);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07.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навирусная инфекция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ирус не идентифицирован)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229600" cy="143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836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000.1.04. + 141.3000.20.04.+141.3000.21.04. = 141.2000.1.07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 из дневных стационар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500.1.04. + 141.3500.21.04.+141.3500.22.04. = 141.2000.1.09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 условиях, включая стационары на дому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213372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, включая стационары на дом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000.1.07. + 141.3000.20.07.+141.3000.21.07. = 141.2000.1.19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 из дневных стационаров, включая стационары на дом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500.1.07. + 141.3500.21.07.+141.3500.22.07. = 141.2000.1.21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4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бщего числа выписанных (гр. 4 и 7 таблиц 3000 и 3500)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ы райвоенкоматом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4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а госпитализированные для обследования и оказавшиеся здоровыми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призывники 2 __________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3 ________________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призывники 4 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602480" cy="55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 Российской Федерации от 30 декабря 2002 г. № 413 «Об утверждении учетной и отчетной медицинской документации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30 декабря 2002 г. № 413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341000"/>
            <a:ext cx="843588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четная форма № 007/у-02 «Листок ежедневного учета движения больных и коечного фонда стационара круглосуточного пребывания, дневного стационара при больничном учреждении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четная форма № 016/у-02 «Сводная ведомость движения больных и коечного фонда по стационару, отделению или профилю коек стационара круглосуточного пребывания, дневного стационара при больничном учреждении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четная форма № 007дс/у-02 «Листок ежедневного учета движения больных и коечного фонда дневного стационара при амбулаторно-поликлиническом учреждении, стационара на дому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64072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30 декабря 2002 г. № 413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23640" y="1600200"/>
            <a:ext cx="856908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Учетная форма № 066/у-02 «Статистическая карта выбывшего из стационара круглосуточного пребывания, дневного стационара при больничном учреждении, дневного стационара при амбулаторно-поликлиническом учреждении, стационара на дому»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Отчетная форма № 14дс «Сведения о деятельности дневных стационаров лечебно-профилактического учреждения»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400" y="571320"/>
            <a:ext cx="8535960" cy="559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Форма отраслевого статистического наблюдения № 14дс 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«Сведения о деятельности дневных стационаров медицинских организаций» </a:t>
            </a: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(утверждена приказом Министерства здравоохранения Российской Федерации от 30.12.2002 г. № 413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99680" y="1142640"/>
            <a:ext cx="810108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1f497d"/>
                </a:solidFill>
                <a:latin typeface="Times New Roman"/>
              </a:rPr>
              <a:t>   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 Российской Федерации от 13 ноября 2003 г. № 548  «Об утверждении инструкции по заполнению отчетной формы по дневным стационарам»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1T19:51:31Z</dcterms:created>
  <dc:creator>Vaio</dc:creator>
  <dc:description/>
  <dc:language>en-US</dc:language>
  <cp:lastModifiedBy>Елена Александровна Бронникова</cp:lastModifiedBy>
  <cp:lastPrinted>2020-12-02T13:53:05Z</cp:lastPrinted>
  <dcterms:modified xsi:type="dcterms:W3CDTF">2020-12-09T01:39:18Z</dcterms:modified>
  <cp:revision>379</cp:revision>
  <dc:subject/>
  <dc:title>Форма отраслевого статистического наблюдения  № 14 дс «Сведения о деятельности дневных стационаров медицинских организаций»</dc:title>
</cp:coreProperties>
</file>