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3261-FEE4-4049-8903-CD113703A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4C9E-E267-467A-BF78-E67C922CBA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20C-EDA8-4F16-9C6F-C95DAD83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BE8-D9DC-4E26-B4AE-61DFB2C7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A28-966B-48FD-ADEB-8339708B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63B-1D2A-48AD-9F43-D9123FF6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2319-144B-4959-91D3-F292E319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CA1E-9662-494F-BD3E-9B0DC0A0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2BB4-8FF6-4B2C-B82D-FBBB5238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FACF-14AD-4CB3-AB86-2F294C28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37C-B94B-4033-A650-5DCAF3A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A82D-2F3C-41C3-8CE6-085CA6AF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E209-F7CD-4343-8DD5-36ED16F6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D2B-202E-4A4C-818F-90A2BB37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2273-407D-4486-9880-9975286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66C2-6BB8-429D-A0C4-5A8D6DC2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0374-852B-431C-9542-64562E2E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509F-AB23-444B-9B94-9727A6C5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4BB1-1ABC-4200-AAA5-B1B656B8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43D0C-E0EA-496F-9532-B9F234D5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3CC6D-1BFE-40A7-9ACD-1AF3132E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2C7DF-4155-4670-A2F8-70604113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392FD-481C-4230-B365-39CC0A23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79AF2-EDC2-42C2-866B-803EF9A5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2A3-DDA2-4A1A-9805-42F8DD7E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C209C-00B1-4EE7-BA49-76BEE990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1AFE1-D69C-434A-96CE-BDEC4E6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FA5BD-F692-4D80-9015-AE47354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0B0E3-376F-4110-9CFE-194F9EE0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5B1DF-796B-4097-930C-5CDD7E31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1FB75-2AFC-48FD-9154-3C4D9431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4AF7C-368B-4C92-9A1F-9AC5F9D2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73FAA-9E82-460A-8A45-EC2318C3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93459-2C8E-4BAC-877E-8EDF3283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D7106-12CD-4EF5-829B-63C88D80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570-7F09-4528-8ADF-00B39899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4EFEE-FEC1-427C-8370-C8D159A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6A839-6D5D-4381-A254-C9D72267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00D39-0693-48AC-B7F5-C936260E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76D39-96BF-4AA0-AE64-F978B9B3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FDDF4-20E6-44D4-AC65-75194F28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41260-201A-4F07-9DD1-80DE9EE2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9A194-DF57-4523-A8D9-8C0118CF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77760-27C4-49CB-89DB-8E4A9683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912B4-9E73-4E30-BB1A-844C67F3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98C-DD47-4C7D-9D25-32A83583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F1F-5F1D-4FD7-A04A-4C5458DC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77D-C52F-4AC6-BC98-4DE9BCDD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0D4-FB35-4096-B8AF-D89E96E7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31A-51B4-4E4C-921F-E4EC2BE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B647-6F05-45EC-AFBB-EEB5E1825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2FC1-9560-4BA9-AD71-DA65D07516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3A80-D4B6-49B6-9A37-7F548ABA9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7009-1724-4DD0-8E00-046772898F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Елена Александровна Бронникова</cp:lastModifiedBy>
  <cp:lastPrinted>2017-12-07T17:18:35Z</cp:lastPrinted>
  <dcterms:modified xsi:type="dcterms:W3CDTF">2020-12-09T01:10:46Z</dcterms:modified>
  <cp:revision>802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