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7CBC-49E1-4BF8-956A-1AD828A9D5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019A-5652-4734-803F-B7C480EEAB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F8C14C-E094-4405-A71B-F65145A65D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BE78-19F8-4B3F-9FAA-E931601B3E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124D-31E2-46F6-8FB2-2C126D10B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753E-2425-4239-9F50-201F4CE690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0277-B02E-4AF2-85DC-658E1CC5A3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41E-D214-445D-9511-652FC9A517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A9FD-FD4B-476A-9F64-8BF99F4F81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496-8F81-4C82-9562-CC42158A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645-B44A-4093-BEC5-A135918C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BFF-2B7E-4244-9103-848E0C66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099-12B5-455E-853A-0C8F483A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5C2-F8D6-4054-AD0A-3794303D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F78-AD99-463B-8430-349EB488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1BF-FA44-44C7-9513-5237C2E6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E58-D404-4EB4-A760-2F483178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DF2-1F0D-4A97-9A53-5F2617F6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CB9-BB87-4335-9A63-59CC2A6E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130-5C8A-487C-A3AC-6ED7A924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252-362A-4534-AF2F-637284D8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0581-0425-41DA-A406-3FCB64CF4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Елена Александровна Бронникова</cp:lastModifiedBy>
  <cp:lastPrinted>2020-12-02T13:30:30Z</cp:lastPrinted>
  <dcterms:modified xsi:type="dcterms:W3CDTF">2020-12-09T01:52:18Z</dcterms:modified>
  <cp:revision>51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