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B740-07DC-4A10-8468-7EF4575D2C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5A70-42CA-4B67-8EEA-8E326B98791D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6F7D-7D05-4DBF-81D6-9234E87405E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4058-B0C4-49C8-A2E6-D7A1B29C8A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97E9-BE9C-4CE6-8487-3ECC56EC9DD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FC6F-9498-4552-80E9-1DD03A9BA77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174C-1C96-4F3C-9E91-B9337DBFBCE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75DC-1543-4AF1-B596-2CA56962A78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E10-DF2F-4C04-B8D0-1708E288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203-5E34-4095-9E6E-E0D28225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650-ADE7-41E9-A276-90E36CE8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33E-EB01-4871-9BD2-216E4298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62E-8C54-49B1-8741-10987996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5AA-31DC-4962-BF04-C5BE91C8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C83-24A8-483D-B70E-AE11EA16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1BE-2B56-4EB5-BC70-4F1350DE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A05-5483-4537-8D2A-483DAE07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859-FBA6-47BA-B91D-F1FF1FAE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6B8-07A0-4109-AC26-B846FF8C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D00-CA85-4BD4-8DA2-B2A0ABF4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36F7-43CD-4D72-8615-6A91B1998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89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1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2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2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3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1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2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9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3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7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3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9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5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9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1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7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0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1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2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Алена Александровна Кандеева</cp:lastModifiedBy>
  <cp:lastPrinted>2018-12-10T14:36:03Z</cp:lastPrinted>
  <dcterms:modified xsi:type="dcterms:W3CDTF">2021-12-21T03:13:57Z</dcterms:modified>
  <cp:revision>176</cp:revision>
  <dc:subject/>
  <dc:title>Презентация PowerPoint</dc:title>
</cp:coreProperties>
</file>