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B7BF-F0B6-497B-8723-FA485C35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72D-AC22-4AE0-A22C-755873C1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6A3-7769-4664-998C-322F1CCA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AEE-75F3-4FC7-B51B-1736E922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A9E-3A30-426C-ABFE-761A7682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97A-2F4E-4DA8-897E-392ACE2C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FB71-0075-4784-B3F5-747A4F91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03D-E8DA-4609-A41E-4512DDD4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98A-9AF1-4978-B25F-A4361E2D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CA3-45F7-447D-8104-97C647EB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CC5C-B944-4D31-9F45-D0C87940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DED3-525A-4C50-B60E-EA66EBE8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EA91-18EF-45DE-8722-CA644F6D24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чет по функциональной диагности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а 30 – таблицы 5401, 5402, 540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ЭКГ дистанционно – строка 3 таблицы 5402 и строка 51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хоКГ, УЗ исследование сосудов, ЭхоЭГ – в отчет по ультразвуковой диагностике (т. 511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яснительная записк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Штаты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если совместители – внешние или внутренние. Внутренние – основная специаль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ппаратур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название – фирма производитель – год выпуска – тех. Состоя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taly.barkan@yandex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18:43:47Z</dcterms:created>
  <dc:creator>пк</dc:creator>
  <dc:description/>
  <dc:language>en-US</dc:language>
  <cp:lastModifiedBy>пк</cp:lastModifiedBy>
  <dcterms:modified xsi:type="dcterms:W3CDTF">2024-12-11T19:50:43Z</dcterms:modified>
  <cp:revision>2</cp:revision>
  <dc:subject/>
  <dc:title>Отчет по функциональной диагностике</dc:title>
</cp:coreProperties>
</file>