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51B-8C5A-4EE6-9AC2-86D1DB03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B8B-ACE7-4DAA-B953-23A6FEC2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0DA99-9A74-45DF-B0B0-A67B638C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9FC2B-9591-4F0C-8A46-678335D4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748C5-B77B-4DCD-909B-C0496DE9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620DB-EB66-40C6-92E1-5654D21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39620-048D-4ABB-B4D2-DA26B9E6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14365-0557-4C36-B39B-FF7F548C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CD153-74AC-4C4E-9D1D-1A2F922D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73C91-9FFE-4327-B7DB-5C6C2BA4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F3449-DF0D-46D1-B639-28E8417C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5344B-9969-4CC8-9D0D-B3A89C3E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EC9-8EC3-43BD-8B26-7EDA86AA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4B586-6E1F-4503-A1FC-B864E635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FB498-D5F6-43EC-8ED7-18D55E5F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471F7-2E84-47BD-BCF6-76A8FA24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E014F-EC8F-404E-92CF-C0E39951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8A83C-08BE-4D1F-993D-3EFA4F75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24EA1-D336-42AB-9DFE-EB03600D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8A2A3-AF6A-49CA-9DA6-3D459121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CE13B-CE11-48D0-8015-3C47D5C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506DF-7B89-4FB7-8053-E0735BCC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CE37C-4B11-4374-AEBD-C10004D9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AE8-F73D-4E31-B3EF-3DC2721C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90741-93CB-449A-BE0E-DBEF0E8B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9B571-9AE7-4FBE-A597-7DF91B2F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11D3B-53D8-42D6-8AEF-EA00A331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B35BF-CB37-4975-A792-421E44DC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10D71-0C7D-4445-A6E5-A7C8A1A1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5B880-ADF5-4E1F-9C8C-0D0BB71F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DBC76-5CF3-488A-8222-583B7EEF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5F658-521A-47FD-9EC0-53FF10E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31AD3-9980-40B2-90A3-29717B82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6FD78-1666-4577-AE73-74BFDB29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A905-5086-4DA0-A4E7-A496CE48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A5ED8-FDB9-4E8F-8A60-1190B2CE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3B6CF-FC11-4BF1-B945-29D9E205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281D0-4EAD-48BB-B0C1-9636BE66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D8307-68C2-48AA-AAD7-4D58B9B4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40D07-84A8-463F-A9FE-086E7FF3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22829-59AC-4848-89B0-6EA8721D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C1AE0-6877-4B81-B2EB-07F52B58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4792E-91C2-414F-90F7-ECC1FD6C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FE69A-D8DF-4F5E-8119-BC7654F3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E8C53-7C6A-4C18-A424-33D8AD47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D80F-18B1-4D69-86D3-0FCF151A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F91E7-2849-485F-9733-FACC7E22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A8615-AAB5-4E0A-BBA2-032B8C4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351C9-AD35-4F44-913E-424D9D31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F9B69-BB82-48E5-B280-9F438EDD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C2D4C-7C80-4ED4-98F5-1F0DD5D3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6F03F-C359-4354-8612-3556C58F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83EF2-CE4F-410F-A6BD-C19F2411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FD1E0-9358-4754-9957-768BC4D4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624AF-8493-45AA-BF5A-1028D874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DF1DC-1AC3-4A5F-92D3-F4849191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98F4-2256-46B1-8BE4-A9B745CF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F2D3A-C822-4406-A336-CADBDD82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F3FAA-0B60-4849-BA4B-E2F1549C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29FB7-AF41-4F14-BB95-324D1294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5A680-D885-4775-846D-891273D8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8882E-CCB3-4C17-B29F-6DE2D1C0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97940-109A-490B-B2FD-32A3DC6C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C24D4-9205-40C9-951E-46BAD442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A6AA5-5E79-470E-B00B-A6C3F050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F43D8-0DDA-430B-B11F-2931FE5C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50757-2C6C-4502-A113-02C5941B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1B97-C7B7-4972-8504-24A70E60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19284-6D4A-4432-AF6C-4B5475E5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6D8A9-1FD9-4A6F-82A5-0956BB39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BD46C-BE23-46AA-AA10-EDB7CF96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79A05-4A0D-4FCB-A810-EFC545B8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D620A-8F07-4D74-85F3-759EF3C7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54F7A-C26D-413A-988F-AE179F10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D4F49-1DD4-443A-85B0-38854A14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BA724-C394-4F91-B7F9-47441875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71EAA-C25F-4941-9566-77C52A4A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4159C-AD9E-42E7-950D-7455C8DF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5B5B-2725-42C1-A809-3C6125DB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5785E-3789-44E4-BB5C-D1B829EB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82870-D983-49A9-9F27-C6530DF9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CBDCC-70C6-494B-ABCF-1866433A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46A11E-0D0F-4EC9-85FC-6D24E532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72804-47D7-4258-9818-0242480E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E1720-8A02-4F9C-BA9D-F0313B8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FE967-30DD-490E-B6B9-ECF1A64D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B1B5A-0B89-4ECC-B02E-C570D56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32F56-B7A5-4168-A69B-9D09FB39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5ACCF-5268-4B3C-B17D-A0D0AF46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ED1B-6A55-4408-B19A-58EC426D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AB996-CDED-4D8C-80AB-7A366841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96D3A-626C-4A45-B221-5FC28504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BABC79-9940-4A54-8AEE-526C7CB0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876A0-B689-4A62-9888-EA1AC436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4CC0A-2D92-4D48-8091-7D8E0CF0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AB728-943B-4252-AF7A-00E6BBB8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E92DE-553A-46D5-AE03-3D55FA44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4BFB0-07D1-4485-A3E9-C93A063C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11FFE-3806-44E6-908E-615E887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BC8F6-3C1F-4F87-9F69-DA7551B5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4E36-5818-4635-AC7C-FD75AB31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5A4E6-E0B6-4B85-99D7-E8115928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6032D-709F-481E-AAE1-2E0C8028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6C3FD-5EDE-472A-8AC0-2D0EDD52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B81-A7DC-4498-B3C1-F7853F5B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2041-992B-4596-B665-EBBEE9CF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5029-2743-45E5-BF45-C223F7FC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3229-296A-4B64-AA89-56328A79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0A11-104F-489A-A69F-DF63C48B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AB75-F4F8-4167-B12A-18F29DD6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7DB9-DE01-4155-8A2D-244787D3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978B-5599-4195-B6A7-431FFC76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EACC-A92F-46DE-BD95-7C15D7A8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D536-24AC-474E-B93C-407729C5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0FE6-CE5B-4D33-A884-B71A8522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DC9-6EC4-4CE5-BDE5-56B78F63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C83E3-7061-4CEA-8F4F-28A78223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F837-11C2-4927-8617-DC5C81F5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3D40-7181-44CD-9423-6D62DB25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F2B9-940F-4AAB-817E-D32F46D2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AE4A-9CAF-44D2-9701-121EA570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AC90-DD03-4478-8910-FD294A93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46E0-1271-442E-BDCF-D6C25D71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C9337-8056-476F-91DE-ECC7944D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A3692-F353-4EA0-AF34-A868B5C8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2361D-BD7C-4C2D-AA7D-52017AB5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EDF-378D-4A14-B904-1453F25F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07682-426D-48B9-9E25-FE968C57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4B56-532F-4331-A5F6-0DBA825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5F01F-4CE5-4823-BFD5-1321BC82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A651-4BDB-4FEB-AF6C-0B791F05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BB5BD-7044-4015-92FA-2768EE7B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ED01-9D35-4A2D-9B23-A1A7CA07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76BB-4757-432B-B639-17A29D17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7FB7-418B-4349-9861-AED073E9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B4122-2DDA-47B2-AC72-EADA71E6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6C769-4264-4B7D-B2D2-42AD2325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5D8-7C6F-4662-A187-12F816E0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1336E-93FD-4BED-A1CC-10B08262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CB225-0E82-4459-A32E-A2A1D302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F01D6-C60D-4433-890B-8CE2A816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E330E-19C5-4769-96EA-42EE3ED6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88CC-E5EB-424D-A6D3-779C6B5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2C8D4-F55F-4DBF-8EFE-D53CE258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5AF2-1A5C-42C6-AF84-8B7DEB9E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853F1-D7A3-4605-A1FC-FC9A952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0BC7F-D8FD-4D25-99E1-971F5897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6DA48-ABD6-4207-A8BD-AC817FB6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F57-C4ED-4B5C-8AA5-0984F0EF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F101-C14C-46E5-9D3C-BDD8C8EE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7D8C-0E35-40CE-AEA9-C8D2939B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EA0FB-CC18-4A36-A200-79B3B636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397E8-481E-43FB-9B99-85167E5F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5F7C0-14AA-48EA-8846-29DA776D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0E70E-2901-4207-9137-6FFF950A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7BB77-0544-40CC-8171-8695D7B4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1A5CB-B9EC-480F-8C7C-ACEDEDDD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F8A41-DC80-4225-A533-08CF8F8E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DC3A-1864-40D9-AA49-0995295C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3FA-B1D5-4A5E-9624-99DE38B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EFC71-24E6-4AC3-8BF2-C346368C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FBD16-3B35-4A5E-A117-555F00AB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5F17-56D9-4F30-8935-17E1EE2E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00686-0BD2-4261-BA5D-52372F39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9E387-F95F-45AA-86F3-F1C7F2DC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02EB5-C9A7-402F-903E-D07CDB45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C21F7-515C-4F62-9D81-67B89187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F04A9-8D10-4E8E-82F4-8E576248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4E6EF-D4A9-4D8D-A198-2DC20A32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BE9C8-839A-4B17-B186-95925A15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937-B9F4-49D5-8347-6C8AD78C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4EFAA-6AE9-450D-BF43-B8AF3A22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BF9C9-8BB8-4870-96D5-A4F8469F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2385C-9C67-4E7F-819A-9A51A4BA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9ACF3-2E01-4BE4-A71C-E18F04A1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E4720-CBA2-448D-91FA-6079BD7F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1FDD1-2301-48EF-9A75-E5408E0F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18B73-FE3B-43B8-9684-4E14A034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8D418-68C0-45E5-A903-C66F511C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1B1C2-E402-4B76-9739-2682EA7A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7069B-BE5B-4411-A2F9-24C45A3A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E2E-F81E-4267-8085-6F35F2EB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A9144-5508-421F-AFDF-C78E0B5B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FD482-AE79-4F0A-A74A-1C686741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C9DD5-7F25-414D-BCDE-6326293D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6533-7E5D-4E0B-89BC-C985CECB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F551B-A9CF-4C73-B71F-8DE6EB0C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2C966-204B-4881-9BBD-90F9A99A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99568-EAF8-4FAB-9F16-9DDADFD4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11D5D-71E9-4689-9698-1C99CD80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D1309-82C5-4412-BB6A-A8AE2283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492D5-1738-432F-A483-2101326C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F7FC-B2C7-4BE2-9CF3-15AD6F92A6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2559-8045-452D-948E-A1FEBEDC4D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5D9B-3772-4114-A0DD-6A9CE1407E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770D-26F7-4B2B-970C-737DBD1C53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731F-B468-4EB6-845D-5598CB6237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ACA0-0461-4EDB-8F12-305F4488BA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5D14-7B41-42D2-AB68-D22B74CE60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1191-8413-4A93-AF11-C034F09557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D57F-6130-49B0-98CF-865BE62700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3745-0864-4AD3-B11E-F190A1A353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2EB1-AE00-48A9-B20B-C961C31C09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0867-B8C5-4F30-B4E8-494A51A267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633C-6512-4DBB-9709-AF4BA3B6D3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848A-7962-42AD-A5DA-8AF87092D9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D5B8-D086-42A7-AB0F-52E3B16DA3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901E-5534-4162-AEAF-5CB00D54E9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object 5"/>
          <p:cNvSpPr/>
          <p:nvPr/>
        </p:nvSpPr>
        <p:spPr>
          <a:xfrm>
            <a:off x="684360" y="314784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object 6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object 7"/>
          <p:cNvSpPr/>
          <p:nvPr/>
        </p:nvSpPr>
        <p:spPr>
          <a:xfrm>
            <a:off x="684360" y="3757680"/>
            <a:ext cx="360" cy="16488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object 8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object 9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object 10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object 11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object 12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object 13"/>
          <p:cNvSpPr/>
          <p:nvPr/>
        </p:nvSpPr>
        <p:spPr>
          <a:xfrm>
            <a:off x="684360" y="482436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object 14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object 15"/>
          <p:cNvSpPr/>
          <p:nvPr/>
        </p:nvSpPr>
        <p:spPr>
          <a:xfrm>
            <a:off x="684360" y="5433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object 16"/>
          <p:cNvSpPr/>
          <p:nvPr/>
        </p:nvSpPr>
        <p:spPr>
          <a:xfrm>
            <a:off x="684360" y="5586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object 17"/>
          <p:cNvSpPr/>
          <p:nvPr/>
        </p:nvSpPr>
        <p:spPr>
          <a:xfrm>
            <a:off x="684360" y="5738760"/>
            <a:ext cx="360" cy="57240"/>
          </a:xfrm>
          <a:custGeom>
            <a:avLst/>
            <a:gdLst/>
            <a:ahLst/>
            <a:rect l="l" t="t" r="r" b="b"/>
            <a:pathLst>
              <a:path w="0" h="58420">
                <a:moveTo>
                  <a:pt x="0" y="0"/>
                </a:moveTo>
                <a:lnTo>
                  <a:pt x="0" y="-768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object 18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object 20"/>
          <p:cNvSpPr/>
          <p:nvPr/>
        </p:nvSpPr>
        <p:spPr>
          <a:xfrm>
            <a:off x="2465280" y="936720"/>
            <a:ext cx="43214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115 «Ультразвуковые исследован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object 21"/>
          <p:cNvSpPr/>
          <p:nvPr/>
        </p:nvSpPr>
        <p:spPr>
          <a:xfrm>
            <a:off x="39387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object 22"/>
          <p:cNvSpPr/>
          <p:nvPr/>
        </p:nvSpPr>
        <p:spPr>
          <a:xfrm>
            <a:off x="44290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object 23"/>
          <p:cNvSpPr/>
          <p:nvPr/>
        </p:nvSpPr>
        <p:spPr>
          <a:xfrm>
            <a:off x="518004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object 24"/>
          <p:cNvSpPr/>
          <p:nvPr/>
        </p:nvSpPr>
        <p:spPr>
          <a:xfrm>
            <a:off x="624348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object 25"/>
          <p:cNvSpPr/>
          <p:nvPr/>
        </p:nvSpPr>
        <p:spPr>
          <a:xfrm>
            <a:off x="701820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object 26"/>
          <p:cNvSpPr/>
          <p:nvPr/>
        </p:nvSpPr>
        <p:spPr>
          <a:xfrm>
            <a:off x="77914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object 27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object 28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object 29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object 30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object 31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object 32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object 33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object 34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object 35"/>
          <p:cNvSpPr/>
          <p:nvPr/>
        </p:nvSpPr>
        <p:spPr>
          <a:xfrm>
            <a:off x="461880" y="3759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object 36"/>
          <p:cNvSpPr/>
          <p:nvPr/>
        </p:nvSpPr>
        <p:spPr>
          <a:xfrm>
            <a:off x="461880" y="3911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bject 37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object 38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object 39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object 40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object 41"/>
          <p:cNvSpPr/>
          <p:nvPr/>
        </p:nvSpPr>
        <p:spPr>
          <a:xfrm>
            <a:off x="461880" y="4978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object 42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object 43"/>
          <p:cNvSpPr/>
          <p:nvPr/>
        </p:nvSpPr>
        <p:spPr>
          <a:xfrm>
            <a:off x="461880" y="5587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object 44"/>
          <p:cNvSpPr/>
          <p:nvPr/>
        </p:nvSpPr>
        <p:spPr>
          <a:xfrm>
            <a:off x="461880" y="5740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object 45"/>
          <p:cNvSpPr/>
          <p:nvPr/>
        </p:nvSpPr>
        <p:spPr>
          <a:xfrm>
            <a:off x="461880" y="5892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object 46"/>
          <p:cNvSpPr/>
          <p:nvPr/>
        </p:nvSpPr>
        <p:spPr>
          <a:xfrm>
            <a:off x="461880" y="6045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object 47"/>
          <p:cNvSpPr/>
          <p:nvPr/>
        </p:nvSpPr>
        <p:spPr>
          <a:xfrm>
            <a:off x="461880" y="6197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object 48"/>
          <p:cNvSpPr/>
          <p:nvPr/>
        </p:nvSpPr>
        <p:spPr>
          <a:xfrm>
            <a:off x="4683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object 49"/>
          <p:cNvSpPr/>
          <p:nvPr/>
        </p:nvSpPr>
        <p:spPr>
          <a:xfrm>
            <a:off x="874872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object 50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object 51"/>
          <p:cNvSpPr/>
          <p:nvPr/>
        </p:nvSpPr>
        <p:spPr>
          <a:xfrm>
            <a:off x="461880" y="6350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object 52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object 53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object 54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object 55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object 56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object 57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bject 58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object 59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object 60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object 61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object 62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object 63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object 64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bject 65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bject 66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bject 67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object 68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object 69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object 70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object 71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object 72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object 73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object 75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object 76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object 77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object 78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object 79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object 80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object 81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object 82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object 83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object 84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object 85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object 86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object 87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object 88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object 89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object 90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object 91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object 92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object 93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object 94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bject 95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bject 96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object 97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bject 98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object 99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bject 100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bject 101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bject 102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bject 103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bject 104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bject 105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object 106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object 107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bject 108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bject 109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object 110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object 111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object 112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object 113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bject 114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bject 115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bject 116"/>
          <p:cNvSpPr/>
          <p:nvPr/>
        </p:nvSpPr>
        <p:spPr>
          <a:xfrm>
            <a:off x="501480" y="2701800"/>
            <a:ext cx="2060640" cy="141480"/>
          </a:xfrm>
          <a:custGeom>
            <a:avLst/>
            <a:gdLst/>
            <a:ahLst/>
            <a:rect l="l" t="t" r="r" b="b"/>
            <a:pathLst>
              <a:path w="2060575" h="140335">
                <a:moveTo>
                  <a:pt x="0" y="140208"/>
                </a:moveTo>
                <a:lnTo>
                  <a:pt x="2060448" y="140208"/>
                </a:lnTo>
                <a:lnTo>
                  <a:pt x="2060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bject 117"/>
          <p:cNvSpPr/>
          <p:nvPr/>
        </p:nvSpPr>
        <p:spPr>
          <a:xfrm>
            <a:off x="2562120" y="2701800"/>
            <a:ext cx="41400" cy="141480"/>
          </a:xfrm>
          <a:custGeom>
            <a:avLst/>
            <a:gdLst/>
            <a:ahLst/>
            <a:rect l="l" t="t" r="r" b="b"/>
            <a:pathLst>
              <a:path w="41275" h="140335">
                <a:moveTo>
                  <a:pt x="0" y="140208"/>
                </a:moveTo>
                <a:lnTo>
                  <a:pt x="41148" y="140208"/>
                </a:lnTo>
                <a:lnTo>
                  <a:pt x="411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bject 118"/>
          <p:cNvSpPr/>
          <p:nvPr/>
        </p:nvSpPr>
        <p:spPr>
          <a:xfrm>
            <a:off x="2603520" y="2701800"/>
            <a:ext cx="33480" cy="141480"/>
          </a:xfrm>
          <a:custGeom>
            <a:avLst/>
            <a:gdLst/>
            <a:ahLst/>
            <a:rect l="l" t="t" r="r" b="b"/>
            <a:pathLst>
              <a:path w="33655" h="140335">
                <a:moveTo>
                  <a:pt x="0" y="140208"/>
                </a:moveTo>
                <a:lnTo>
                  <a:pt x="33527" y="140208"/>
                </a:lnTo>
                <a:lnTo>
                  <a:pt x="335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bject 119"/>
          <p:cNvSpPr/>
          <p:nvPr/>
        </p:nvSpPr>
        <p:spPr>
          <a:xfrm>
            <a:off x="2637000" y="2701800"/>
            <a:ext cx="288720" cy="141480"/>
          </a:xfrm>
          <a:custGeom>
            <a:avLst/>
            <a:gdLst/>
            <a:ahLst/>
            <a:rect l="l" t="t" r="r" b="b"/>
            <a:pathLst>
              <a:path w="288289" h="140335">
                <a:moveTo>
                  <a:pt x="0" y="140208"/>
                </a:moveTo>
                <a:lnTo>
                  <a:pt x="288036" y="140208"/>
                </a:lnTo>
                <a:lnTo>
                  <a:pt x="2880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bject 120"/>
          <p:cNvSpPr/>
          <p:nvPr/>
        </p:nvSpPr>
        <p:spPr>
          <a:xfrm>
            <a:off x="488880" y="2676600"/>
            <a:ext cx="2448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ые исследования (УЗИ) -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bject 121"/>
          <p:cNvSpPr/>
          <p:nvPr/>
        </p:nvSpPr>
        <p:spPr>
          <a:xfrm>
            <a:off x="4183200" y="27018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object 122"/>
          <p:cNvSpPr/>
          <p:nvPr/>
        </p:nvSpPr>
        <p:spPr>
          <a:xfrm>
            <a:off x="4140360" y="26766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object 123"/>
          <p:cNvSpPr/>
          <p:nvPr/>
        </p:nvSpPr>
        <p:spPr>
          <a:xfrm>
            <a:off x="501480" y="2854440"/>
            <a:ext cx="663840" cy="141120"/>
          </a:xfrm>
          <a:custGeom>
            <a:avLst/>
            <a:gdLst/>
            <a:ahLst/>
            <a:rect l="l" t="t" r="r" b="b"/>
            <a:pathLst>
              <a:path w="662940" h="140335">
                <a:moveTo>
                  <a:pt x="0" y="140208"/>
                </a:moveTo>
                <a:lnTo>
                  <a:pt x="662940" y="140208"/>
                </a:lnTo>
                <a:lnTo>
                  <a:pt x="6629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object 124"/>
          <p:cNvSpPr/>
          <p:nvPr/>
        </p:nvSpPr>
        <p:spPr>
          <a:xfrm>
            <a:off x="488880" y="2828880"/>
            <a:ext cx="689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ом числе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bject 125"/>
          <p:cNvSpPr/>
          <p:nvPr/>
        </p:nvSpPr>
        <p:spPr>
          <a:xfrm>
            <a:off x="573120" y="3006720"/>
            <a:ext cx="276120" cy="141120"/>
          </a:xfrm>
          <a:custGeom>
            <a:avLst/>
            <a:gdLst/>
            <a:ahLst/>
            <a:rect l="l" t="t" r="r" b="b"/>
            <a:pathLst>
              <a:path w="276225" h="140335">
                <a:moveTo>
                  <a:pt x="0" y="140208"/>
                </a:moveTo>
                <a:lnTo>
                  <a:pt x="275844" y="140208"/>
                </a:lnTo>
                <a:lnTo>
                  <a:pt x="275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bject 126"/>
          <p:cNvSpPr/>
          <p:nvPr/>
        </p:nvSpPr>
        <p:spPr>
          <a:xfrm>
            <a:off x="849240" y="3006720"/>
            <a:ext cx="493920" cy="141120"/>
          </a:xfrm>
          <a:custGeom>
            <a:avLst/>
            <a:gdLst/>
            <a:ahLst/>
            <a:rect l="l" t="t" r="r" b="b"/>
            <a:pathLst>
              <a:path w="492759" h="140335">
                <a:moveTo>
                  <a:pt x="0" y="140208"/>
                </a:moveTo>
                <a:lnTo>
                  <a:pt x="492252" y="140208"/>
                </a:lnTo>
                <a:lnTo>
                  <a:pt x="4922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object 127"/>
          <p:cNvSpPr/>
          <p:nvPr/>
        </p:nvSpPr>
        <p:spPr>
          <a:xfrm>
            <a:off x="1362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bject 128"/>
          <p:cNvSpPr/>
          <p:nvPr/>
        </p:nvSpPr>
        <p:spPr>
          <a:xfrm>
            <a:off x="1382760" y="3006720"/>
            <a:ext cx="619200" cy="141120"/>
          </a:xfrm>
          <a:custGeom>
            <a:avLst/>
            <a:gdLst/>
            <a:ahLst/>
            <a:rect l="l" t="t" r="r" b="b"/>
            <a:pathLst>
              <a:path w="619125" h="140335">
                <a:moveTo>
                  <a:pt x="0" y="140208"/>
                </a:moveTo>
                <a:lnTo>
                  <a:pt x="618744" y="140208"/>
                </a:lnTo>
                <a:lnTo>
                  <a:pt x="6187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object 129"/>
          <p:cNvSpPr/>
          <p:nvPr/>
        </p:nvSpPr>
        <p:spPr>
          <a:xfrm>
            <a:off x="2019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bject 130"/>
          <p:cNvSpPr/>
          <p:nvPr/>
        </p:nvSpPr>
        <p:spPr>
          <a:xfrm>
            <a:off x="2038320" y="3006720"/>
            <a:ext cx="493920" cy="141120"/>
          </a:xfrm>
          <a:custGeom>
            <a:avLst/>
            <a:gdLst/>
            <a:ahLst/>
            <a:rect l="l" t="t" r="r" b="b"/>
            <a:pathLst>
              <a:path w="494030" h="140335">
                <a:moveTo>
                  <a:pt x="0" y="140208"/>
                </a:moveTo>
                <a:lnTo>
                  <a:pt x="493775" y="140208"/>
                </a:lnTo>
                <a:lnTo>
                  <a:pt x="4937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object 131"/>
          <p:cNvSpPr/>
          <p:nvPr/>
        </p:nvSpPr>
        <p:spPr>
          <a:xfrm>
            <a:off x="2532240" y="3006720"/>
            <a:ext cx="63360" cy="141120"/>
          </a:xfrm>
          <a:custGeom>
            <a:avLst/>
            <a:gdLst/>
            <a:ahLst/>
            <a:rect l="l" t="t" r="r" b="b"/>
            <a:pathLst>
              <a:path w="64135" h="140335">
                <a:moveTo>
                  <a:pt x="0" y="140208"/>
                </a:moveTo>
                <a:lnTo>
                  <a:pt x="64007" y="140208"/>
                </a:lnTo>
                <a:lnTo>
                  <a:pt x="6400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bject 132"/>
          <p:cNvSpPr/>
          <p:nvPr/>
        </p:nvSpPr>
        <p:spPr>
          <a:xfrm>
            <a:off x="2595600" y="3006720"/>
            <a:ext cx="33480" cy="141120"/>
          </a:xfrm>
          <a:custGeom>
            <a:avLst/>
            <a:gdLst/>
            <a:ahLst/>
            <a:rect l="l" t="t" r="r" b="b"/>
            <a:pathLst>
              <a:path w="32385" h="140335">
                <a:moveTo>
                  <a:pt x="0" y="140208"/>
                </a:moveTo>
                <a:lnTo>
                  <a:pt x="32003" y="140208"/>
                </a:lnTo>
                <a:lnTo>
                  <a:pt x="320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object 133"/>
          <p:cNvSpPr/>
          <p:nvPr/>
        </p:nvSpPr>
        <p:spPr>
          <a:xfrm>
            <a:off x="2629080" y="3006720"/>
            <a:ext cx="320400" cy="141120"/>
          </a:xfrm>
          <a:custGeom>
            <a:avLst/>
            <a:gdLst/>
            <a:ahLst/>
            <a:rect l="l" t="t" r="r" b="b"/>
            <a:pathLst>
              <a:path w="321944" h="140335">
                <a:moveTo>
                  <a:pt x="0" y="140208"/>
                </a:moveTo>
                <a:lnTo>
                  <a:pt x="321563" y="140208"/>
                </a:lnTo>
                <a:lnTo>
                  <a:pt x="3215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bject 134"/>
          <p:cNvSpPr/>
          <p:nvPr/>
        </p:nvSpPr>
        <p:spPr>
          <a:xfrm>
            <a:off x="561960" y="2981160"/>
            <a:ext cx="2367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ердечно-сосудистой системы –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object 135"/>
          <p:cNvSpPr/>
          <p:nvPr/>
        </p:nvSpPr>
        <p:spPr>
          <a:xfrm>
            <a:off x="4183200" y="2930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object 136"/>
          <p:cNvSpPr/>
          <p:nvPr/>
        </p:nvSpPr>
        <p:spPr>
          <a:xfrm>
            <a:off x="4140360" y="2905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object 137"/>
          <p:cNvSpPr/>
          <p:nvPr/>
        </p:nvSpPr>
        <p:spPr>
          <a:xfrm>
            <a:off x="682560" y="3159000"/>
            <a:ext cx="92160" cy="14148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object 138"/>
          <p:cNvSpPr/>
          <p:nvPr/>
        </p:nvSpPr>
        <p:spPr>
          <a:xfrm>
            <a:off x="774720" y="3159000"/>
            <a:ext cx="1650960" cy="141480"/>
          </a:xfrm>
          <a:custGeom>
            <a:avLst/>
            <a:gdLst/>
            <a:ahLst/>
            <a:rect l="l" t="t" r="r" b="b"/>
            <a:pathLst>
              <a:path w="1651000" h="140335">
                <a:moveTo>
                  <a:pt x="0" y="140208"/>
                </a:moveTo>
                <a:lnTo>
                  <a:pt x="1650492" y="140208"/>
                </a:lnTo>
                <a:lnTo>
                  <a:pt x="16504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bject 139"/>
          <p:cNvSpPr/>
          <p:nvPr/>
        </p:nvSpPr>
        <p:spPr>
          <a:xfrm>
            <a:off x="762120" y="3133800"/>
            <a:ext cx="1674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исследование сосуд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bject 140"/>
          <p:cNvSpPr/>
          <p:nvPr/>
        </p:nvSpPr>
        <p:spPr>
          <a:xfrm>
            <a:off x="4102200" y="31590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object 141"/>
          <p:cNvSpPr/>
          <p:nvPr/>
        </p:nvSpPr>
        <p:spPr>
          <a:xfrm>
            <a:off x="4091040" y="31338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bject 142"/>
          <p:cNvSpPr/>
          <p:nvPr/>
        </p:nvSpPr>
        <p:spPr>
          <a:xfrm>
            <a:off x="682560" y="3311640"/>
            <a:ext cx="282600" cy="14112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3" y="140208"/>
                </a:lnTo>
                <a:lnTo>
                  <a:pt x="2834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object 143"/>
          <p:cNvSpPr/>
          <p:nvPr/>
        </p:nvSpPr>
        <p:spPr>
          <a:xfrm>
            <a:off x="965160" y="3311640"/>
            <a:ext cx="1417680" cy="141120"/>
          </a:xfrm>
          <a:custGeom>
            <a:avLst/>
            <a:gdLst/>
            <a:ahLst/>
            <a:rect l="l" t="t" r="r" b="b"/>
            <a:pathLst>
              <a:path w="1417320" h="140335">
                <a:moveTo>
                  <a:pt x="0" y="140208"/>
                </a:moveTo>
                <a:lnTo>
                  <a:pt x="1417320" y="140208"/>
                </a:lnTo>
                <a:lnTo>
                  <a:pt x="14173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bject 144"/>
          <p:cNvSpPr/>
          <p:nvPr/>
        </p:nvSpPr>
        <p:spPr>
          <a:xfrm>
            <a:off x="952560" y="3286080"/>
            <a:ext cx="1441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слепым доплеро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object 145"/>
          <p:cNvSpPr/>
          <p:nvPr/>
        </p:nvSpPr>
        <p:spPr>
          <a:xfrm>
            <a:off x="4056120" y="3311640"/>
            <a:ext cx="255600" cy="141120"/>
          </a:xfrm>
          <a:custGeom>
            <a:avLst/>
            <a:gdLst/>
            <a:ahLst/>
            <a:rect l="l" t="t" r="r" b="b"/>
            <a:pathLst>
              <a:path w="256539" h="140335">
                <a:moveTo>
                  <a:pt x="0" y="140208"/>
                </a:moveTo>
                <a:lnTo>
                  <a:pt x="256032" y="140208"/>
                </a:lnTo>
                <a:lnTo>
                  <a:pt x="25603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bject 146"/>
          <p:cNvSpPr/>
          <p:nvPr/>
        </p:nvSpPr>
        <p:spPr>
          <a:xfrm>
            <a:off x="4043520" y="3286080"/>
            <a:ext cx="280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object 147"/>
          <p:cNvSpPr/>
          <p:nvPr/>
        </p:nvSpPr>
        <p:spPr>
          <a:xfrm>
            <a:off x="51768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0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bject 148"/>
          <p:cNvSpPr/>
          <p:nvPr/>
        </p:nvSpPr>
        <p:spPr>
          <a:xfrm>
            <a:off x="533520" y="3463920"/>
            <a:ext cx="976320" cy="141120"/>
          </a:xfrm>
          <a:custGeom>
            <a:avLst/>
            <a:gdLst/>
            <a:ahLst/>
            <a:rect l="l" t="t" r="r" b="b"/>
            <a:pathLst>
              <a:path w="977265" h="140335">
                <a:moveTo>
                  <a:pt x="0" y="140208"/>
                </a:moveTo>
                <a:lnTo>
                  <a:pt x="976883" y="140208"/>
                </a:lnTo>
                <a:lnTo>
                  <a:pt x="976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object 149"/>
          <p:cNvSpPr/>
          <p:nvPr/>
        </p:nvSpPr>
        <p:spPr>
          <a:xfrm>
            <a:off x="520560" y="3438360"/>
            <a:ext cx="100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object 150"/>
          <p:cNvSpPr/>
          <p:nvPr/>
        </p:nvSpPr>
        <p:spPr>
          <a:xfrm>
            <a:off x="418320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object 151"/>
          <p:cNvSpPr/>
          <p:nvPr/>
        </p:nvSpPr>
        <p:spPr>
          <a:xfrm>
            <a:off x="4140360" y="34383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object 152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object 153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object 154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object 155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object 156"/>
          <p:cNvSpPr/>
          <p:nvPr/>
        </p:nvSpPr>
        <p:spPr>
          <a:xfrm>
            <a:off x="501480" y="3616200"/>
            <a:ext cx="125640" cy="141480"/>
          </a:xfrm>
          <a:custGeom>
            <a:avLst/>
            <a:gdLst/>
            <a:ahLst/>
            <a:rect l="l" t="t" r="r" b="b"/>
            <a:pathLst>
              <a:path w="125095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object 157"/>
          <p:cNvSpPr/>
          <p:nvPr/>
        </p:nvSpPr>
        <p:spPr>
          <a:xfrm>
            <a:off x="627120" y="3616200"/>
            <a:ext cx="2062080" cy="141480"/>
          </a:xfrm>
          <a:custGeom>
            <a:avLst/>
            <a:gdLst/>
            <a:ahLst/>
            <a:rect l="l" t="t" r="r" b="b"/>
            <a:pathLst>
              <a:path w="2062480" h="140335">
                <a:moveTo>
                  <a:pt x="0" y="140208"/>
                </a:moveTo>
                <a:lnTo>
                  <a:pt x="2061972" y="140208"/>
                </a:lnTo>
                <a:lnTo>
                  <a:pt x="2061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object 158"/>
          <p:cNvSpPr/>
          <p:nvPr/>
        </p:nvSpPr>
        <p:spPr>
          <a:xfrm>
            <a:off x="614520" y="3591000"/>
            <a:ext cx="1641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чрезпищеводная ЭХ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object 159"/>
          <p:cNvSpPr/>
          <p:nvPr/>
        </p:nvSpPr>
        <p:spPr>
          <a:xfrm>
            <a:off x="4102200" y="36162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object 160"/>
          <p:cNvSpPr/>
          <p:nvPr/>
        </p:nvSpPr>
        <p:spPr>
          <a:xfrm>
            <a:off x="4091040" y="35910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object 161"/>
          <p:cNvSpPr/>
          <p:nvPr/>
        </p:nvSpPr>
        <p:spPr>
          <a:xfrm>
            <a:off x="7359480" y="36162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object 162"/>
          <p:cNvSpPr/>
          <p:nvPr/>
        </p:nvSpPr>
        <p:spPr>
          <a:xfrm>
            <a:off x="7348680" y="35910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object 163"/>
          <p:cNvSpPr/>
          <p:nvPr/>
        </p:nvSpPr>
        <p:spPr>
          <a:xfrm>
            <a:off x="8223120" y="36162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bject 164"/>
          <p:cNvSpPr/>
          <p:nvPr/>
        </p:nvSpPr>
        <p:spPr>
          <a:xfrm>
            <a:off x="8211960" y="35910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bject 165"/>
          <p:cNvSpPr/>
          <p:nvPr/>
        </p:nvSpPr>
        <p:spPr>
          <a:xfrm>
            <a:off x="1133640" y="3768840"/>
            <a:ext cx="633240" cy="141120"/>
          </a:xfrm>
          <a:custGeom>
            <a:avLst/>
            <a:gdLst/>
            <a:ahLst/>
            <a:rect l="l" t="t" r="r" b="b"/>
            <a:pathLst>
              <a:path w="634364" h="140335">
                <a:moveTo>
                  <a:pt x="0" y="140208"/>
                </a:moveTo>
                <a:lnTo>
                  <a:pt x="633984" y="140208"/>
                </a:lnTo>
                <a:lnTo>
                  <a:pt x="633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object 166"/>
          <p:cNvSpPr/>
          <p:nvPr/>
        </p:nvSpPr>
        <p:spPr>
          <a:xfrm>
            <a:off x="1766880" y="3768840"/>
            <a:ext cx="344520" cy="141120"/>
          </a:xfrm>
          <a:custGeom>
            <a:avLst/>
            <a:gdLst/>
            <a:ahLst/>
            <a:rect l="l" t="t" r="r" b="b"/>
            <a:pathLst>
              <a:path w="344805" h="140335">
                <a:moveTo>
                  <a:pt x="0" y="140208"/>
                </a:moveTo>
                <a:lnTo>
                  <a:pt x="344424" y="140208"/>
                </a:lnTo>
                <a:lnTo>
                  <a:pt x="3444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object 167"/>
          <p:cNvSpPr/>
          <p:nvPr/>
        </p:nvSpPr>
        <p:spPr>
          <a:xfrm>
            <a:off x="2131920" y="3768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object 168"/>
          <p:cNvSpPr/>
          <p:nvPr/>
        </p:nvSpPr>
        <p:spPr>
          <a:xfrm>
            <a:off x="2152800" y="3768840"/>
            <a:ext cx="950760" cy="141120"/>
          </a:xfrm>
          <a:custGeom>
            <a:avLst/>
            <a:gdLst/>
            <a:ahLst/>
            <a:rect l="l" t="t" r="r" b="b"/>
            <a:pathLst>
              <a:path w="951230" h="140335">
                <a:moveTo>
                  <a:pt x="0" y="140208"/>
                </a:moveTo>
                <a:lnTo>
                  <a:pt x="950976" y="140208"/>
                </a:lnTo>
                <a:lnTo>
                  <a:pt x="950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object 169"/>
          <p:cNvSpPr/>
          <p:nvPr/>
        </p:nvSpPr>
        <p:spPr>
          <a:xfrm>
            <a:off x="1754280" y="3743280"/>
            <a:ext cx="136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-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object 170"/>
          <p:cNvSpPr/>
          <p:nvPr/>
        </p:nvSpPr>
        <p:spPr>
          <a:xfrm>
            <a:off x="4102200" y="376884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object 171"/>
          <p:cNvSpPr/>
          <p:nvPr/>
        </p:nvSpPr>
        <p:spPr>
          <a:xfrm>
            <a:off x="4091040" y="374328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object 172"/>
          <p:cNvSpPr/>
          <p:nvPr/>
        </p:nvSpPr>
        <p:spPr>
          <a:xfrm>
            <a:off x="7359480" y="37688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bject 173"/>
          <p:cNvSpPr/>
          <p:nvPr/>
        </p:nvSpPr>
        <p:spPr>
          <a:xfrm>
            <a:off x="7348680" y="3743280"/>
            <a:ext cx="11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bject 174"/>
          <p:cNvSpPr/>
          <p:nvPr/>
        </p:nvSpPr>
        <p:spPr>
          <a:xfrm>
            <a:off x="8223120" y="37688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object 175"/>
          <p:cNvSpPr/>
          <p:nvPr/>
        </p:nvSpPr>
        <p:spPr>
          <a:xfrm>
            <a:off x="8211960" y="37432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object 176"/>
          <p:cNvSpPr/>
          <p:nvPr/>
        </p:nvSpPr>
        <p:spPr>
          <a:xfrm>
            <a:off x="573120" y="3921120"/>
            <a:ext cx="3284640" cy="141120"/>
          </a:xfrm>
          <a:custGeom>
            <a:avLst/>
            <a:gdLst/>
            <a:ahLst/>
            <a:rect l="l" t="t" r="r" b="b"/>
            <a:pathLst>
              <a:path w="3284220" h="140335">
                <a:moveTo>
                  <a:pt x="0" y="140208"/>
                </a:moveTo>
                <a:lnTo>
                  <a:pt x="3284220" y="140208"/>
                </a:lnTo>
                <a:lnTo>
                  <a:pt x="32842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object 177"/>
          <p:cNvSpPr/>
          <p:nvPr/>
        </p:nvSpPr>
        <p:spPr>
          <a:xfrm>
            <a:off x="561960" y="3895560"/>
            <a:ext cx="326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брюшной полости, включая гепатобилиарную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object 178"/>
          <p:cNvSpPr/>
          <p:nvPr/>
        </p:nvSpPr>
        <p:spPr>
          <a:xfrm>
            <a:off x="573120" y="4073400"/>
            <a:ext cx="465120" cy="141480"/>
          </a:xfrm>
          <a:custGeom>
            <a:avLst/>
            <a:gdLst/>
            <a:ahLst/>
            <a:rect l="l" t="t" r="r" b="b"/>
            <a:pathLst>
              <a:path w="464819" h="140335">
                <a:moveTo>
                  <a:pt x="0" y="140208"/>
                </a:moveTo>
                <a:lnTo>
                  <a:pt x="464820" y="140208"/>
                </a:lnTo>
                <a:lnTo>
                  <a:pt x="4648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object 179"/>
          <p:cNvSpPr/>
          <p:nvPr/>
        </p:nvSpPr>
        <p:spPr>
          <a:xfrm>
            <a:off x="561960" y="4048200"/>
            <a:ext cx="488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у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object 180"/>
          <p:cNvSpPr/>
          <p:nvPr/>
        </p:nvSpPr>
        <p:spPr>
          <a:xfrm>
            <a:off x="573120" y="4226040"/>
            <a:ext cx="25380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object 181"/>
          <p:cNvSpPr/>
          <p:nvPr/>
        </p:nvSpPr>
        <p:spPr>
          <a:xfrm>
            <a:off x="826920" y="4226040"/>
            <a:ext cx="2194200" cy="141120"/>
          </a:xfrm>
          <a:custGeom>
            <a:avLst/>
            <a:gdLst/>
            <a:ahLst/>
            <a:rect l="l" t="t" r="r" b="b"/>
            <a:pathLst>
              <a:path w="2194560" h="140335">
                <a:moveTo>
                  <a:pt x="0" y="140208"/>
                </a:moveTo>
                <a:lnTo>
                  <a:pt x="2194560" y="140208"/>
                </a:lnTo>
                <a:lnTo>
                  <a:pt x="219456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object 182"/>
          <p:cNvSpPr/>
          <p:nvPr/>
        </p:nvSpPr>
        <p:spPr>
          <a:xfrm>
            <a:off x="814320" y="4200480"/>
            <a:ext cx="2217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лезенку, мезентериальные 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object 183"/>
          <p:cNvSpPr/>
          <p:nvPr/>
        </p:nvSpPr>
        <p:spPr>
          <a:xfrm>
            <a:off x="4183200" y="4073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object 184"/>
          <p:cNvSpPr/>
          <p:nvPr/>
        </p:nvSpPr>
        <p:spPr>
          <a:xfrm>
            <a:off x="4140360" y="4048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object 185"/>
          <p:cNvSpPr/>
          <p:nvPr/>
        </p:nvSpPr>
        <p:spPr>
          <a:xfrm>
            <a:off x="501480" y="4378320"/>
            <a:ext cx="316080" cy="141120"/>
          </a:xfrm>
          <a:custGeom>
            <a:avLst/>
            <a:gdLst/>
            <a:ahLst/>
            <a:rect l="l" t="t" r="r" b="b"/>
            <a:pathLst>
              <a:path w="315594" h="140335">
                <a:moveTo>
                  <a:pt x="0" y="140208"/>
                </a:moveTo>
                <a:lnTo>
                  <a:pt x="315468" y="140208"/>
                </a:lnTo>
                <a:lnTo>
                  <a:pt x="3154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object 186"/>
          <p:cNvSpPr/>
          <p:nvPr/>
        </p:nvSpPr>
        <p:spPr>
          <a:xfrm>
            <a:off x="817560" y="4378320"/>
            <a:ext cx="2181240" cy="141120"/>
          </a:xfrm>
          <a:custGeom>
            <a:avLst/>
            <a:gdLst/>
            <a:ahLst/>
            <a:rect l="l" t="t" r="r" b="b"/>
            <a:pathLst>
              <a:path w="2181225" h="140335">
                <a:moveTo>
                  <a:pt x="0" y="140208"/>
                </a:moveTo>
                <a:lnTo>
                  <a:pt x="2180844" y="140208"/>
                </a:lnTo>
                <a:lnTo>
                  <a:pt x="2180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object 187"/>
          <p:cNvSpPr/>
          <p:nvPr/>
        </p:nvSpPr>
        <p:spPr>
          <a:xfrm>
            <a:off x="804960" y="4352760"/>
            <a:ext cx="2206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на наличие свободной жидкос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object 188"/>
          <p:cNvSpPr/>
          <p:nvPr/>
        </p:nvSpPr>
        <p:spPr>
          <a:xfrm>
            <a:off x="4102200" y="43783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object 189"/>
          <p:cNvSpPr/>
          <p:nvPr/>
        </p:nvSpPr>
        <p:spPr>
          <a:xfrm>
            <a:off x="4091040" y="43527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object 190"/>
          <p:cNvSpPr/>
          <p:nvPr/>
        </p:nvSpPr>
        <p:spPr>
          <a:xfrm>
            <a:off x="501480" y="4530600"/>
            <a:ext cx="708120" cy="141480"/>
          </a:xfrm>
          <a:custGeom>
            <a:avLst/>
            <a:gdLst/>
            <a:ahLst/>
            <a:rect l="l" t="t" r="r" b="b"/>
            <a:pathLst>
              <a:path w="707390" h="140335">
                <a:moveTo>
                  <a:pt x="0" y="140208"/>
                </a:moveTo>
                <a:lnTo>
                  <a:pt x="707136" y="140208"/>
                </a:lnTo>
                <a:lnTo>
                  <a:pt x="7071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object 191"/>
          <p:cNvSpPr/>
          <p:nvPr/>
        </p:nvSpPr>
        <p:spPr>
          <a:xfrm>
            <a:off x="1209600" y="4530600"/>
            <a:ext cx="801720" cy="141480"/>
          </a:xfrm>
          <a:custGeom>
            <a:avLst/>
            <a:gdLst/>
            <a:ahLst/>
            <a:rect l="l" t="t" r="r" b="b"/>
            <a:pathLst>
              <a:path w="802005" h="140335">
                <a:moveTo>
                  <a:pt x="0" y="140208"/>
                </a:moveTo>
                <a:lnTo>
                  <a:pt x="801623" y="140208"/>
                </a:lnTo>
                <a:lnTo>
                  <a:pt x="80162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bject 192"/>
          <p:cNvSpPr/>
          <p:nvPr/>
        </p:nvSpPr>
        <p:spPr>
          <a:xfrm>
            <a:off x="1197000" y="4505400"/>
            <a:ext cx="826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object 193"/>
          <p:cNvSpPr/>
          <p:nvPr/>
        </p:nvSpPr>
        <p:spPr>
          <a:xfrm>
            <a:off x="4102200" y="45306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bject 194"/>
          <p:cNvSpPr/>
          <p:nvPr/>
        </p:nvSpPr>
        <p:spPr>
          <a:xfrm>
            <a:off x="4091040" y="45054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object 195"/>
          <p:cNvSpPr/>
          <p:nvPr/>
        </p:nvSpPr>
        <p:spPr>
          <a:xfrm>
            <a:off x="573120" y="4683240"/>
            <a:ext cx="2052720" cy="141120"/>
          </a:xfrm>
          <a:custGeom>
            <a:avLst/>
            <a:gdLst/>
            <a:ahLst/>
            <a:rect l="l" t="t" r="r" b="b"/>
            <a:pathLst>
              <a:path w="2051685" h="140335">
                <a:moveTo>
                  <a:pt x="0" y="140208"/>
                </a:moveTo>
                <a:lnTo>
                  <a:pt x="2051303" y="140208"/>
                </a:lnTo>
                <a:lnTo>
                  <a:pt x="20513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object 196"/>
          <p:cNvSpPr/>
          <p:nvPr/>
        </p:nvSpPr>
        <p:spPr>
          <a:xfrm>
            <a:off x="561960" y="4657680"/>
            <a:ext cx="207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женских половых органов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object 197"/>
          <p:cNvSpPr/>
          <p:nvPr/>
        </p:nvSpPr>
        <p:spPr>
          <a:xfrm>
            <a:off x="4183200" y="46832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object 198"/>
          <p:cNvSpPr/>
          <p:nvPr/>
        </p:nvSpPr>
        <p:spPr>
          <a:xfrm>
            <a:off x="4140360" y="46576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bject 199"/>
          <p:cNvSpPr/>
          <p:nvPr/>
        </p:nvSpPr>
        <p:spPr>
          <a:xfrm>
            <a:off x="682560" y="48355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object 200"/>
          <p:cNvSpPr/>
          <p:nvPr/>
        </p:nvSpPr>
        <p:spPr>
          <a:xfrm>
            <a:off x="774720" y="4835520"/>
            <a:ext cx="2235240" cy="141120"/>
          </a:xfrm>
          <a:custGeom>
            <a:avLst/>
            <a:gdLst/>
            <a:ahLst/>
            <a:rect l="l" t="t" r="r" b="b"/>
            <a:pathLst>
              <a:path w="2234565" h="140335">
                <a:moveTo>
                  <a:pt x="0" y="140208"/>
                </a:moveTo>
                <a:lnTo>
                  <a:pt x="2234184" y="140208"/>
                </a:lnTo>
                <a:lnTo>
                  <a:pt x="22341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object 201"/>
          <p:cNvSpPr/>
          <p:nvPr/>
        </p:nvSpPr>
        <p:spPr>
          <a:xfrm>
            <a:off x="762120" y="4809960"/>
            <a:ext cx="2257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вагинально не беременны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object 202"/>
          <p:cNvSpPr/>
          <p:nvPr/>
        </p:nvSpPr>
        <p:spPr>
          <a:xfrm>
            <a:off x="4102200" y="48355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object 203"/>
          <p:cNvSpPr/>
          <p:nvPr/>
        </p:nvSpPr>
        <p:spPr>
          <a:xfrm>
            <a:off x="4091040" y="48099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object 204"/>
          <p:cNvSpPr/>
          <p:nvPr/>
        </p:nvSpPr>
        <p:spPr>
          <a:xfrm>
            <a:off x="1133640" y="4987800"/>
            <a:ext cx="125280" cy="141480"/>
          </a:xfrm>
          <a:custGeom>
            <a:avLst/>
            <a:gdLst/>
            <a:ahLst/>
            <a:rect l="l" t="t" r="r" b="b"/>
            <a:pathLst>
              <a:path w="125094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object 205"/>
          <p:cNvSpPr/>
          <p:nvPr/>
        </p:nvSpPr>
        <p:spPr>
          <a:xfrm>
            <a:off x="1257480" y="4987800"/>
            <a:ext cx="1842840" cy="141480"/>
          </a:xfrm>
          <a:custGeom>
            <a:avLst/>
            <a:gdLst/>
            <a:ahLst/>
            <a:rect l="l" t="t" r="r" b="b"/>
            <a:pathLst>
              <a:path w="1842770" h="140335">
                <a:moveTo>
                  <a:pt x="0" y="140208"/>
                </a:moveTo>
                <a:lnTo>
                  <a:pt x="1842515" y="140208"/>
                </a:lnTo>
                <a:lnTo>
                  <a:pt x="18425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object 206"/>
          <p:cNvSpPr/>
          <p:nvPr/>
        </p:nvSpPr>
        <p:spPr>
          <a:xfrm>
            <a:off x="1246320" y="4962600"/>
            <a:ext cx="1865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ременности (из стр. 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object 207"/>
          <p:cNvSpPr/>
          <p:nvPr/>
        </p:nvSpPr>
        <p:spPr>
          <a:xfrm>
            <a:off x="4102200" y="49878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object 208"/>
          <p:cNvSpPr/>
          <p:nvPr/>
        </p:nvSpPr>
        <p:spPr>
          <a:xfrm>
            <a:off x="4091040" y="49626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object 209"/>
          <p:cNvSpPr/>
          <p:nvPr/>
        </p:nvSpPr>
        <p:spPr>
          <a:xfrm>
            <a:off x="8223120" y="49878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object 210"/>
          <p:cNvSpPr/>
          <p:nvPr/>
        </p:nvSpPr>
        <p:spPr>
          <a:xfrm>
            <a:off x="8211960" y="49626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object 211"/>
          <p:cNvSpPr/>
          <p:nvPr/>
        </p:nvSpPr>
        <p:spPr>
          <a:xfrm>
            <a:off x="573120" y="5140440"/>
            <a:ext cx="3251160" cy="141120"/>
          </a:xfrm>
          <a:custGeom>
            <a:avLst/>
            <a:gdLst/>
            <a:ahLst/>
            <a:rect l="l" t="t" r="r" b="b"/>
            <a:pathLst>
              <a:path w="3251200" h="140335">
                <a:moveTo>
                  <a:pt x="0" y="140208"/>
                </a:moveTo>
                <a:lnTo>
                  <a:pt x="3250691" y="140208"/>
                </a:lnTo>
                <a:lnTo>
                  <a:pt x="325069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object 212"/>
          <p:cNvSpPr/>
          <p:nvPr/>
        </p:nvSpPr>
        <p:spPr>
          <a:xfrm>
            <a:off x="561960" y="5114880"/>
            <a:ext cx="3241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очек, надпочечников, забрюшинного пространства 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bject 213"/>
          <p:cNvSpPr/>
          <p:nvPr/>
        </p:nvSpPr>
        <p:spPr>
          <a:xfrm>
            <a:off x="573120" y="5292720"/>
            <a:ext cx="504720" cy="141120"/>
          </a:xfrm>
          <a:custGeom>
            <a:avLst/>
            <a:gdLst/>
            <a:ahLst/>
            <a:rect l="l" t="t" r="r" b="b"/>
            <a:pathLst>
              <a:path w="504825" h="140335">
                <a:moveTo>
                  <a:pt x="0" y="140208"/>
                </a:moveTo>
                <a:lnTo>
                  <a:pt x="504444" y="140208"/>
                </a:lnTo>
                <a:lnTo>
                  <a:pt x="5044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object 214"/>
          <p:cNvSpPr/>
          <p:nvPr/>
        </p:nvSpPr>
        <p:spPr>
          <a:xfrm>
            <a:off x="561960" y="5267160"/>
            <a:ext cx="528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чев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object 215"/>
          <p:cNvSpPr/>
          <p:nvPr/>
        </p:nvSpPr>
        <p:spPr>
          <a:xfrm>
            <a:off x="573120" y="5445000"/>
            <a:ext cx="284040" cy="14148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4" y="140208"/>
                </a:lnTo>
                <a:lnTo>
                  <a:pt x="2834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object 216"/>
          <p:cNvSpPr/>
          <p:nvPr/>
        </p:nvSpPr>
        <p:spPr>
          <a:xfrm>
            <a:off x="857160" y="5445000"/>
            <a:ext cx="385920" cy="141480"/>
          </a:xfrm>
          <a:custGeom>
            <a:avLst/>
            <a:gdLst/>
            <a:ahLst/>
            <a:rect l="l" t="t" r="r" b="b"/>
            <a:pathLst>
              <a:path w="386080" h="140335">
                <a:moveTo>
                  <a:pt x="0" y="140208"/>
                </a:moveTo>
                <a:lnTo>
                  <a:pt x="385572" y="140208"/>
                </a:lnTo>
                <a:lnTo>
                  <a:pt x="3855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object 217"/>
          <p:cNvSpPr/>
          <p:nvPr/>
        </p:nvSpPr>
        <p:spPr>
          <a:xfrm>
            <a:off x="844560" y="5419800"/>
            <a:ext cx="411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зыр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object 218"/>
          <p:cNvSpPr/>
          <p:nvPr/>
        </p:nvSpPr>
        <p:spPr>
          <a:xfrm>
            <a:off x="4183200" y="5292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object 219"/>
          <p:cNvSpPr/>
          <p:nvPr/>
        </p:nvSpPr>
        <p:spPr>
          <a:xfrm>
            <a:off x="4140360" y="52671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object 220"/>
          <p:cNvSpPr/>
          <p:nvPr/>
        </p:nvSpPr>
        <p:spPr>
          <a:xfrm>
            <a:off x="573120" y="5597640"/>
            <a:ext cx="1919160" cy="141120"/>
          </a:xfrm>
          <a:custGeom>
            <a:avLst/>
            <a:gdLst/>
            <a:ahLst/>
            <a:rect l="l" t="t" r="r" b="b"/>
            <a:pathLst>
              <a:path w="1918970" h="140335">
                <a:moveTo>
                  <a:pt x="0" y="140208"/>
                </a:moveTo>
                <a:lnTo>
                  <a:pt x="1918715" y="140208"/>
                </a:lnTo>
                <a:lnTo>
                  <a:pt x="19187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object 221"/>
          <p:cNvSpPr/>
          <p:nvPr/>
        </p:nvSpPr>
        <p:spPr>
          <a:xfrm>
            <a:off x="561960" y="5572080"/>
            <a:ext cx="1941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редстательной железы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object 222"/>
          <p:cNvSpPr/>
          <p:nvPr/>
        </p:nvSpPr>
        <p:spPr>
          <a:xfrm>
            <a:off x="4183200" y="5597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object 223"/>
          <p:cNvSpPr/>
          <p:nvPr/>
        </p:nvSpPr>
        <p:spPr>
          <a:xfrm>
            <a:off x="4140360" y="55720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bject 224"/>
          <p:cNvSpPr/>
          <p:nvPr/>
        </p:nvSpPr>
        <p:spPr>
          <a:xfrm>
            <a:off x="682560" y="57499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object 225"/>
          <p:cNvSpPr/>
          <p:nvPr/>
        </p:nvSpPr>
        <p:spPr>
          <a:xfrm>
            <a:off x="774720" y="5749920"/>
            <a:ext cx="1262160" cy="141120"/>
          </a:xfrm>
          <a:custGeom>
            <a:avLst/>
            <a:gdLst/>
            <a:ahLst/>
            <a:rect l="l" t="t" r="r" b="b"/>
            <a:pathLst>
              <a:path w="1262380" h="140335">
                <a:moveTo>
                  <a:pt x="0" y="140208"/>
                </a:moveTo>
                <a:lnTo>
                  <a:pt x="1261872" y="140208"/>
                </a:lnTo>
                <a:lnTo>
                  <a:pt x="12618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object 226"/>
          <p:cNvSpPr/>
          <p:nvPr/>
        </p:nvSpPr>
        <p:spPr>
          <a:xfrm>
            <a:off x="762120" y="5724360"/>
            <a:ext cx="128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ректаль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object 227"/>
          <p:cNvSpPr/>
          <p:nvPr/>
        </p:nvSpPr>
        <p:spPr>
          <a:xfrm>
            <a:off x="4102200" y="57499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object 228"/>
          <p:cNvSpPr/>
          <p:nvPr/>
        </p:nvSpPr>
        <p:spPr>
          <a:xfrm>
            <a:off x="4091040" y="57243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object 229"/>
          <p:cNvSpPr/>
          <p:nvPr/>
        </p:nvSpPr>
        <p:spPr>
          <a:xfrm>
            <a:off x="573120" y="5902200"/>
            <a:ext cx="1241280" cy="141480"/>
          </a:xfrm>
          <a:custGeom>
            <a:avLst/>
            <a:gdLst/>
            <a:ahLst/>
            <a:rect l="l" t="t" r="r" b="b"/>
            <a:pathLst>
              <a:path w="1240789" h="140335">
                <a:moveTo>
                  <a:pt x="0" y="140208"/>
                </a:moveTo>
                <a:lnTo>
                  <a:pt x="1240536" y="140208"/>
                </a:lnTo>
                <a:lnTo>
                  <a:pt x="12405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object 230"/>
          <p:cNvSpPr/>
          <p:nvPr/>
        </p:nvSpPr>
        <p:spPr>
          <a:xfrm>
            <a:off x="561960" y="5877000"/>
            <a:ext cx="1263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олочной желез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object 231"/>
          <p:cNvSpPr/>
          <p:nvPr/>
        </p:nvSpPr>
        <p:spPr>
          <a:xfrm>
            <a:off x="4183200" y="59022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object 232"/>
          <p:cNvSpPr/>
          <p:nvPr/>
        </p:nvSpPr>
        <p:spPr>
          <a:xfrm>
            <a:off x="4140360" y="58770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object 233"/>
          <p:cNvSpPr/>
          <p:nvPr/>
        </p:nvSpPr>
        <p:spPr>
          <a:xfrm>
            <a:off x="573120" y="6054840"/>
            <a:ext cx="2359080" cy="141120"/>
          </a:xfrm>
          <a:custGeom>
            <a:avLst/>
            <a:gdLst/>
            <a:ahLst/>
            <a:rect l="l" t="t" r="r" b="b"/>
            <a:pathLst>
              <a:path w="2357755" h="140335">
                <a:moveTo>
                  <a:pt x="0" y="140208"/>
                </a:moveTo>
                <a:lnTo>
                  <a:pt x="2357628" y="140208"/>
                </a:lnTo>
                <a:lnTo>
                  <a:pt x="2357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object 234"/>
          <p:cNvSpPr/>
          <p:nvPr/>
        </p:nvSpPr>
        <p:spPr>
          <a:xfrm>
            <a:off x="561960" y="6029280"/>
            <a:ext cx="2381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щитовидной и паращитовидной желез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object 235"/>
          <p:cNvSpPr/>
          <p:nvPr/>
        </p:nvSpPr>
        <p:spPr>
          <a:xfrm>
            <a:off x="4183200" y="6054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object 236"/>
          <p:cNvSpPr/>
          <p:nvPr/>
        </p:nvSpPr>
        <p:spPr>
          <a:xfrm>
            <a:off x="4140360" y="60292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object 237"/>
          <p:cNvSpPr/>
          <p:nvPr/>
        </p:nvSpPr>
        <p:spPr>
          <a:xfrm>
            <a:off x="573120" y="6207120"/>
            <a:ext cx="644400" cy="141120"/>
          </a:xfrm>
          <a:custGeom>
            <a:avLst/>
            <a:gdLst/>
            <a:ahLst/>
            <a:rect l="l" t="t" r="r" b="b"/>
            <a:pathLst>
              <a:path w="643255" h="140335">
                <a:moveTo>
                  <a:pt x="0" y="140208"/>
                </a:moveTo>
                <a:lnTo>
                  <a:pt x="643128" y="140208"/>
                </a:lnTo>
                <a:lnTo>
                  <a:pt x="6431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object 238"/>
          <p:cNvSpPr/>
          <p:nvPr/>
        </p:nvSpPr>
        <p:spPr>
          <a:xfrm>
            <a:off x="1238400" y="62071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object 239"/>
          <p:cNvSpPr/>
          <p:nvPr/>
        </p:nvSpPr>
        <p:spPr>
          <a:xfrm>
            <a:off x="1257480" y="6207120"/>
            <a:ext cx="1079280" cy="141120"/>
          </a:xfrm>
          <a:custGeom>
            <a:avLst/>
            <a:gdLst/>
            <a:ahLst/>
            <a:rect l="l" t="t" r="r" b="b"/>
            <a:pathLst>
              <a:path w="1079500" h="140335">
                <a:moveTo>
                  <a:pt x="0" y="140208"/>
                </a:moveTo>
                <a:lnTo>
                  <a:pt x="1078992" y="140208"/>
                </a:lnTo>
                <a:lnTo>
                  <a:pt x="10789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object 240"/>
          <p:cNvSpPr/>
          <p:nvPr/>
        </p:nvSpPr>
        <p:spPr>
          <a:xfrm>
            <a:off x="561960" y="6181560"/>
            <a:ext cx="1787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костно-мышечной систем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object 241"/>
          <p:cNvSpPr/>
          <p:nvPr/>
        </p:nvSpPr>
        <p:spPr>
          <a:xfrm>
            <a:off x="4119480" y="62071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object 242"/>
          <p:cNvSpPr/>
          <p:nvPr/>
        </p:nvSpPr>
        <p:spPr>
          <a:xfrm>
            <a:off x="4106880" y="61815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object 243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AutoShape 1"/>
          <p:cNvSpPr/>
          <p:nvPr/>
        </p:nvSpPr>
        <p:spPr>
          <a:xfrm>
            <a:off x="4572000" y="2438280"/>
            <a:ext cx="4343400" cy="1143000"/>
          </a:xfrm>
          <a:prstGeom prst="wedgeRoundRectCallout">
            <a:avLst>
              <a:gd name="adj1" fmla="val -30453"/>
              <a:gd name="adj2" fmla="val 5124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УЗИ брюшной полости (строка 04) входят: исследования гепатобилиарной системы (печени, желчного пузыря, поджелудочной железы),  селезенки, полых органов (пищевода, желудка, кишечника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AutoShape 2"/>
          <p:cNvSpPr/>
          <p:nvPr/>
        </p:nvSpPr>
        <p:spPr>
          <a:xfrm>
            <a:off x="4568760" y="4059360"/>
            <a:ext cx="4343400" cy="533160"/>
          </a:xfrm>
          <a:prstGeom prst="wedgeRoundRectCallout">
            <a:avLst>
              <a:gd name="adj1" fmla="val -38013"/>
              <a:gd name="adj2" fmla="val 42458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исследования сосуд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ет показывать в строке 2.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4572000" y="5486400"/>
            <a:ext cx="4343400" cy="762120"/>
          </a:xfrm>
          <a:prstGeom prst="wedgeRoundRectCallout">
            <a:avLst>
              <a:gd name="adj1" fmla="val -28125"/>
              <a:gd name="adj2" fmla="val 35416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чие УЗ-исследования (строка 19)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object 5"/>
          <p:cNvSpPr/>
          <p:nvPr/>
        </p:nvSpPr>
        <p:spPr>
          <a:xfrm>
            <a:off x="684360" y="3147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object 6"/>
          <p:cNvSpPr/>
          <p:nvPr/>
        </p:nvSpPr>
        <p:spPr>
          <a:xfrm>
            <a:off x="684360" y="3300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object 7"/>
          <p:cNvSpPr/>
          <p:nvPr/>
        </p:nvSpPr>
        <p:spPr>
          <a:xfrm>
            <a:off x="684360" y="34527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object 8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object 9"/>
          <p:cNvSpPr/>
          <p:nvPr/>
        </p:nvSpPr>
        <p:spPr>
          <a:xfrm>
            <a:off x="684360" y="37576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object 10"/>
          <p:cNvSpPr/>
          <p:nvPr/>
        </p:nvSpPr>
        <p:spPr>
          <a:xfrm>
            <a:off x="684360" y="39099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object 11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object 12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object 13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object 14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object 15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object 16"/>
          <p:cNvSpPr/>
          <p:nvPr/>
        </p:nvSpPr>
        <p:spPr>
          <a:xfrm>
            <a:off x="684360" y="48243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object 17"/>
          <p:cNvSpPr/>
          <p:nvPr/>
        </p:nvSpPr>
        <p:spPr>
          <a:xfrm>
            <a:off x="684360" y="4976640"/>
            <a:ext cx="360" cy="16524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object 18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object 20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5" name="object 22"/>
          <p:cNvSpPr/>
          <p:nvPr/>
        </p:nvSpPr>
        <p:spPr>
          <a:xfrm>
            <a:off x="7445520" y="936720"/>
            <a:ext cx="12236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object 23"/>
          <p:cNvSpPr/>
          <p:nvPr/>
        </p:nvSpPr>
        <p:spPr>
          <a:xfrm>
            <a:off x="39387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object 24"/>
          <p:cNvSpPr/>
          <p:nvPr/>
        </p:nvSpPr>
        <p:spPr>
          <a:xfrm>
            <a:off x="44290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object 25"/>
          <p:cNvSpPr/>
          <p:nvPr/>
        </p:nvSpPr>
        <p:spPr>
          <a:xfrm>
            <a:off x="518004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object 26"/>
          <p:cNvSpPr/>
          <p:nvPr/>
        </p:nvSpPr>
        <p:spPr>
          <a:xfrm>
            <a:off x="624348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object 27"/>
          <p:cNvSpPr/>
          <p:nvPr/>
        </p:nvSpPr>
        <p:spPr>
          <a:xfrm>
            <a:off x="701820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object 28"/>
          <p:cNvSpPr/>
          <p:nvPr/>
        </p:nvSpPr>
        <p:spPr>
          <a:xfrm>
            <a:off x="77914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object 29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object 30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object 31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object 32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object 33"/>
          <p:cNvSpPr/>
          <p:nvPr/>
        </p:nvSpPr>
        <p:spPr>
          <a:xfrm>
            <a:off x="461880" y="2997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object 34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object 35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object 36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object 37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object 38"/>
          <p:cNvSpPr/>
          <p:nvPr/>
        </p:nvSpPr>
        <p:spPr>
          <a:xfrm>
            <a:off x="461880" y="4064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object 39"/>
          <p:cNvSpPr/>
          <p:nvPr/>
        </p:nvSpPr>
        <p:spPr>
          <a:xfrm>
            <a:off x="461880" y="42163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object 40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object 41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object 42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object 43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object 44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object 45"/>
          <p:cNvSpPr/>
          <p:nvPr/>
        </p:nvSpPr>
        <p:spPr>
          <a:xfrm>
            <a:off x="461880" y="5283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object 46"/>
          <p:cNvSpPr/>
          <p:nvPr/>
        </p:nvSpPr>
        <p:spPr>
          <a:xfrm>
            <a:off x="4683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object 47"/>
          <p:cNvSpPr/>
          <p:nvPr/>
        </p:nvSpPr>
        <p:spPr>
          <a:xfrm>
            <a:off x="874872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object 48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object 49"/>
          <p:cNvSpPr/>
          <p:nvPr/>
        </p:nvSpPr>
        <p:spPr>
          <a:xfrm>
            <a:off x="461880" y="5435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object 50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object 51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object 52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object 53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object 54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object 55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object 56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object 57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object 58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object 59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object 60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object 61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object 62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object 63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object 64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object 65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object 66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object 67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object 68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object 69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object 70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object 71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object 73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object 74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object 75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object 76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object 77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object 78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object 79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object 80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object 81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object 82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object 83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object 84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object 85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object 86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object 87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object 88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object 89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object 90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object 91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object 92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object 93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object 94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object 95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object 96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object 97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object 98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object 99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object 100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object 101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object 102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object 103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object 104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object 105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object 106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object 107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object 108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object 109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object 110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object 111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object 112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object 113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object 114"/>
          <p:cNvSpPr/>
          <p:nvPr/>
        </p:nvSpPr>
        <p:spPr>
          <a:xfrm>
            <a:off x="573120" y="2701800"/>
            <a:ext cx="1057320" cy="141480"/>
          </a:xfrm>
          <a:custGeom>
            <a:avLst/>
            <a:gdLst/>
            <a:ahLst/>
            <a:rect l="l" t="t" r="r" b="b"/>
            <a:pathLst>
              <a:path w="1056639" h="140335">
                <a:moveTo>
                  <a:pt x="0" y="140208"/>
                </a:moveTo>
                <a:lnTo>
                  <a:pt x="1056131" y="140208"/>
                </a:lnTo>
                <a:lnTo>
                  <a:pt x="10561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object 115"/>
          <p:cNvSpPr/>
          <p:nvPr/>
        </p:nvSpPr>
        <p:spPr>
          <a:xfrm>
            <a:off x="561960" y="2676600"/>
            <a:ext cx="1081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ягких ткан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object 116"/>
          <p:cNvSpPr/>
          <p:nvPr/>
        </p:nvSpPr>
        <p:spPr>
          <a:xfrm>
            <a:off x="4119480" y="27018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object 117"/>
          <p:cNvSpPr/>
          <p:nvPr/>
        </p:nvSpPr>
        <p:spPr>
          <a:xfrm>
            <a:off x="4106880" y="26766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object 118"/>
          <p:cNvSpPr/>
          <p:nvPr/>
        </p:nvSpPr>
        <p:spPr>
          <a:xfrm>
            <a:off x="573120" y="2854440"/>
            <a:ext cx="190440" cy="141120"/>
          </a:xfrm>
          <a:custGeom>
            <a:avLst/>
            <a:gdLst/>
            <a:ahLst/>
            <a:rect l="l" t="t" r="r" b="b"/>
            <a:pathLst>
              <a:path w="189229" h="140335">
                <a:moveTo>
                  <a:pt x="0" y="140208"/>
                </a:moveTo>
                <a:lnTo>
                  <a:pt x="188976" y="140208"/>
                </a:lnTo>
                <a:lnTo>
                  <a:pt x="188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object 119"/>
          <p:cNvSpPr/>
          <p:nvPr/>
        </p:nvSpPr>
        <p:spPr>
          <a:xfrm>
            <a:off x="762120" y="2854440"/>
            <a:ext cx="1288800" cy="141120"/>
          </a:xfrm>
          <a:custGeom>
            <a:avLst/>
            <a:gdLst/>
            <a:ahLst/>
            <a:rect l="l" t="t" r="r" b="b"/>
            <a:pathLst>
              <a:path w="1287780" h="140335">
                <a:moveTo>
                  <a:pt x="0" y="140208"/>
                </a:moveTo>
                <a:lnTo>
                  <a:pt x="1287780" y="140208"/>
                </a:lnTo>
                <a:lnTo>
                  <a:pt x="128778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object 120"/>
          <p:cNvSpPr/>
          <p:nvPr/>
        </p:nvSpPr>
        <p:spPr>
          <a:xfrm>
            <a:off x="2050920" y="2854440"/>
            <a:ext cx="654120" cy="141120"/>
          </a:xfrm>
          <a:custGeom>
            <a:avLst/>
            <a:gdLst/>
            <a:ahLst/>
            <a:rect l="l" t="t" r="r" b="b"/>
            <a:pathLst>
              <a:path w="654050" h="140335">
                <a:moveTo>
                  <a:pt x="0" y="140208"/>
                </a:moveTo>
                <a:lnTo>
                  <a:pt x="653795" y="140208"/>
                </a:lnTo>
                <a:lnTo>
                  <a:pt x="65379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object 121"/>
          <p:cNvSpPr/>
          <p:nvPr/>
        </p:nvSpPr>
        <p:spPr>
          <a:xfrm>
            <a:off x="750960" y="2828880"/>
            <a:ext cx="1966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поверхностных лимфоузл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object 122"/>
          <p:cNvSpPr/>
          <p:nvPr/>
        </p:nvSpPr>
        <p:spPr>
          <a:xfrm>
            <a:off x="4070520" y="28544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object 123"/>
          <p:cNvSpPr/>
          <p:nvPr/>
        </p:nvSpPr>
        <p:spPr>
          <a:xfrm>
            <a:off x="4059360" y="28288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object 124"/>
          <p:cNvSpPr/>
          <p:nvPr/>
        </p:nvSpPr>
        <p:spPr>
          <a:xfrm>
            <a:off x="573120" y="3006720"/>
            <a:ext cx="1163520" cy="141120"/>
          </a:xfrm>
          <a:custGeom>
            <a:avLst/>
            <a:gdLst/>
            <a:ahLst/>
            <a:rect l="l" t="t" r="r" b="b"/>
            <a:pathLst>
              <a:path w="1163320" h="140335">
                <a:moveTo>
                  <a:pt x="0" y="140208"/>
                </a:moveTo>
                <a:lnTo>
                  <a:pt x="1162812" y="140208"/>
                </a:lnTo>
                <a:lnTo>
                  <a:pt x="11628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object 125"/>
          <p:cNvSpPr/>
          <p:nvPr/>
        </p:nvSpPr>
        <p:spPr>
          <a:xfrm>
            <a:off x="561960" y="2981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оловного мозг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object 126"/>
          <p:cNvSpPr/>
          <p:nvPr/>
        </p:nvSpPr>
        <p:spPr>
          <a:xfrm>
            <a:off x="4119480" y="3006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object 127"/>
          <p:cNvSpPr/>
          <p:nvPr/>
        </p:nvSpPr>
        <p:spPr>
          <a:xfrm>
            <a:off x="4106880" y="2981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object 128"/>
          <p:cNvSpPr/>
          <p:nvPr/>
        </p:nvSpPr>
        <p:spPr>
          <a:xfrm>
            <a:off x="7359480" y="30067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object 129"/>
          <p:cNvSpPr/>
          <p:nvPr/>
        </p:nvSpPr>
        <p:spPr>
          <a:xfrm>
            <a:off x="7348680" y="29811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object 130"/>
          <p:cNvSpPr/>
          <p:nvPr/>
        </p:nvSpPr>
        <p:spPr>
          <a:xfrm>
            <a:off x="8223120" y="30067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object 131"/>
          <p:cNvSpPr/>
          <p:nvPr/>
        </p:nvSpPr>
        <p:spPr>
          <a:xfrm>
            <a:off x="8211960" y="29811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object 132"/>
          <p:cNvSpPr/>
          <p:nvPr/>
        </p:nvSpPr>
        <p:spPr>
          <a:xfrm>
            <a:off x="573120" y="3159000"/>
            <a:ext cx="158760" cy="141480"/>
          </a:xfrm>
          <a:custGeom>
            <a:avLst/>
            <a:gdLst/>
            <a:ahLst/>
            <a:rect l="l" t="t" r="r" b="b"/>
            <a:pathLst>
              <a:path w="157479" h="140335">
                <a:moveTo>
                  <a:pt x="0" y="140208"/>
                </a:moveTo>
                <a:lnTo>
                  <a:pt x="156972" y="140208"/>
                </a:lnTo>
                <a:lnTo>
                  <a:pt x="156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object 133"/>
          <p:cNvSpPr/>
          <p:nvPr/>
        </p:nvSpPr>
        <p:spPr>
          <a:xfrm>
            <a:off x="730080" y="3159000"/>
            <a:ext cx="419400" cy="141480"/>
          </a:xfrm>
          <a:custGeom>
            <a:avLst/>
            <a:gdLst/>
            <a:ahLst/>
            <a:rect l="l" t="t" r="r" b="b"/>
            <a:pathLst>
              <a:path w="417830" h="140335">
                <a:moveTo>
                  <a:pt x="0" y="140208"/>
                </a:moveTo>
                <a:lnTo>
                  <a:pt x="417575" y="140208"/>
                </a:lnTo>
                <a:lnTo>
                  <a:pt x="4175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object 134"/>
          <p:cNvSpPr/>
          <p:nvPr/>
        </p:nvSpPr>
        <p:spPr>
          <a:xfrm>
            <a:off x="1147680" y="3159000"/>
            <a:ext cx="1073160" cy="141480"/>
          </a:xfrm>
          <a:custGeom>
            <a:avLst/>
            <a:gdLst/>
            <a:ahLst/>
            <a:rect l="l" t="t" r="r" b="b"/>
            <a:pathLst>
              <a:path w="1071880" h="140335">
                <a:moveTo>
                  <a:pt x="0" y="140208"/>
                </a:moveTo>
                <a:lnTo>
                  <a:pt x="1071371" y="140208"/>
                </a:lnTo>
                <a:lnTo>
                  <a:pt x="107137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object 135"/>
          <p:cNvSpPr/>
          <p:nvPr/>
        </p:nvSpPr>
        <p:spPr>
          <a:xfrm>
            <a:off x="717480" y="3133800"/>
            <a:ext cx="1514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эхоэнцефалограф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object 136"/>
          <p:cNvSpPr/>
          <p:nvPr/>
        </p:nvSpPr>
        <p:spPr>
          <a:xfrm>
            <a:off x="4070520" y="3159000"/>
            <a:ext cx="223560" cy="14148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object 137"/>
          <p:cNvSpPr/>
          <p:nvPr/>
        </p:nvSpPr>
        <p:spPr>
          <a:xfrm>
            <a:off x="4059360" y="313380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object 138"/>
          <p:cNvSpPr/>
          <p:nvPr/>
        </p:nvSpPr>
        <p:spPr>
          <a:xfrm>
            <a:off x="7359480" y="31590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object 139"/>
          <p:cNvSpPr/>
          <p:nvPr/>
        </p:nvSpPr>
        <p:spPr>
          <a:xfrm>
            <a:off x="7348680" y="31338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object 140"/>
          <p:cNvSpPr/>
          <p:nvPr/>
        </p:nvSpPr>
        <p:spPr>
          <a:xfrm>
            <a:off x="8223120" y="31590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object 141"/>
          <p:cNvSpPr/>
          <p:nvPr/>
        </p:nvSpPr>
        <p:spPr>
          <a:xfrm>
            <a:off x="8211960" y="31338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object 142"/>
          <p:cNvSpPr/>
          <p:nvPr/>
        </p:nvSpPr>
        <p:spPr>
          <a:xfrm>
            <a:off x="573120" y="3311640"/>
            <a:ext cx="571320" cy="141120"/>
          </a:xfrm>
          <a:custGeom>
            <a:avLst/>
            <a:gdLst/>
            <a:ahLst/>
            <a:rect l="l" t="t" r="r" b="b"/>
            <a:pathLst>
              <a:path w="570230" h="140335">
                <a:moveTo>
                  <a:pt x="0" y="140208"/>
                </a:moveTo>
                <a:lnTo>
                  <a:pt x="569976" y="140208"/>
                </a:lnTo>
                <a:lnTo>
                  <a:pt x="569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object 143"/>
          <p:cNvSpPr/>
          <p:nvPr/>
        </p:nvSpPr>
        <p:spPr>
          <a:xfrm>
            <a:off x="1143000" y="3311640"/>
            <a:ext cx="950760" cy="141120"/>
          </a:xfrm>
          <a:custGeom>
            <a:avLst/>
            <a:gdLst/>
            <a:ahLst/>
            <a:rect l="l" t="t" r="r" b="b"/>
            <a:pathLst>
              <a:path w="949960" h="140335">
                <a:moveTo>
                  <a:pt x="0" y="140208"/>
                </a:moveTo>
                <a:lnTo>
                  <a:pt x="949452" y="140208"/>
                </a:lnTo>
                <a:lnTo>
                  <a:pt x="9494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object 144"/>
          <p:cNvSpPr/>
          <p:nvPr/>
        </p:nvSpPr>
        <p:spPr>
          <a:xfrm>
            <a:off x="2112840" y="3311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object 145"/>
          <p:cNvSpPr/>
          <p:nvPr/>
        </p:nvSpPr>
        <p:spPr>
          <a:xfrm>
            <a:off x="2131920" y="3311640"/>
            <a:ext cx="841320" cy="14112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object 146"/>
          <p:cNvSpPr/>
          <p:nvPr/>
        </p:nvSpPr>
        <p:spPr>
          <a:xfrm>
            <a:off x="1131840" y="3286080"/>
            <a:ext cx="1854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сонография детям до 1 год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object 147"/>
          <p:cNvSpPr/>
          <p:nvPr/>
        </p:nvSpPr>
        <p:spPr>
          <a:xfrm>
            <a:off x="4070520" y="33116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object 148"/>
          <p:cNvSpPr/>
          <p:nvPr/>
        </p:nvSpPr>
        <p:spPr>
          <a:xfrm>
            <a:off x="4059360" y="32860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object 149"/>
          <p:cNvSpPr/>
          <p:nvPr/>
        </p:nvSpPr>
        <p:spPr>
          <a:xfrm>
            <a:off x="7359480" y="33116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object 150"/>
          <p:cNvSpPr/>
          <p:nvPr/>
        </p:nvSpPr>
        <p:spPr>
          <a:xfrm>
            <a:off x="7348680" y="32860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object 151"/>
          <p:cNvSpPr/>
          <p:nvPr/>
        </p:nvSpPr>
        <p:spPr>
          <a:xfrm>
            <a:off x="8223120" y="33116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object 152"/>
          <p:cNvSpPr/>
          <p:nvPr/>
        </p:nvSpPr>
        <p:spPr>
          <a:xfrm>
            <a:off x="8211960" y="32860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object 153"/>
          <p:cNvSpPr/>
          <p:nvPr/>
        </p:nvSpPr>
        <p:spPr>
          <a:xfrm>
            <a:off x="573120" y="3463920"/>
            <a:ext cx="554040" cy="141120"/>
          </a:xfrm>
          <a:custGeom>
            <a:avLst/>
            <a:gdLst/>
            <a:ahLst/>
            <a:rect l="l" t="t" r="r" b="b"/>
            <a:pathLst>
              <a:path w="553719" h="140335">
                <a:moveTo>
                  <a:pt x="0" y="140208"/>
                </a:moveTo>
                <a:lnTo>
                  <a:pt x="553212" y="140208"/>
                </a:lnTo>
                <a:lnTo>
                  <a:pt x="5532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object 154"/>
          <p:cNvSpPr/>
          <p:nvPr/>
        </p:nvSpPr>
        <p:spPr>
          <a:xfrm>
            <a:off x="561960" y="3438360"/>
            <a:ext cx="577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лаз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object 155"/>
          <p:cNvSpPr/>
          <p:nvPr/>
        </p:nvSpPr>
        <p:spPr>
          <a:xfrm>
            <a:off x="4119480" y="34639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object 156"/>
          <p:cNvSpPr/>
          <p:nvPr/>
        </p:nvSpPr>
        <p:spPr>
          <a:xfrm>
            <a:off x="4106880" y="34383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object 157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object 158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object 159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object 160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object 161"/>
          <p:cNvSpPr/>
          <p:nvPr/>
        </p:nvSpPr>
        <p:spPr>
          <a:xfrm>
            <a:off x="573120" y="3616200"/>
            <a:ext cx="3176640" cy="141480"/>
          </a:xfrm>
          <a:custGeom>
            <a:avLst/>
            <a:gdLst/>
            <a:ahLst/>
            <a:rect l="l" t="t" r="r" b="b"/>
            <a:pathLst>
              <a:path w="3176270" h="140335">
                <a:moveTo>
                  <a:pt x="0" y="140208"/>
                </a:moveTo>
                <a:lnTo>
                  <a:pt x="3176016" y="140208"/>
                </a:lnTo>
                <a:lnTo>
                  <a:pt x="31760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object 162"/>
          <p:cNvSpPr/>
          <p:nvPr/>
        </p:nvSpPr>
        <p:spPr>
          <a:xfrm>
            <a:off x="561960" y="3591000"/>
            <a:ext cx="316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грудной клетки (кроме сердца): вилочкова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object 163"/>
          <p:cNvSpPr/>
          <p:nvPr/>
        </p:nvSpPr>
        <p:spPr>
          <a:xfrm>
            <a:off x="573120" y="3768840"/>
            <a:ext cx="2925720" cy="141120"/>
          </a:xfrm>
          <a:custGeom>
            <a:avLst/>
            <a:gdLst/>
            <a:ahLst/>
            <a:rect l="l" t="t" r="r" b="b"/>
            <a:pathLst>
              <a:path w="2924810" h="140335">
                <a:moveTo>
                  <a:pt x="0" y="140208"/>
                </a:moveTo>
                <a:lnTo>
                  <a:pt x="2924555" y="140208"/>
                </a:lnTo>
                <a:lnTo>
                  <a:pt x="292455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object 164"/>
          <p:cNvSpPr/>
          <p:nvPr/>
        </p:nvSpPr>
        <p:spPr>
          <a:xfrm>
            <a:off x="561960" y="3743280"/>
            <a:ext cx="2909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, легкие, плевральная полость, внутригруд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object 165"/>
          <p:cNvSpPr/>
          <p:nvPr/>
        </p:nvSpPr>
        <p:spPr>
          <a:xfrm>
            <a:off x="573120" y="3921120"/>
            <a:ext cx="615960" cy="141120"/>
          </a:xfrm>
          <a:custGeom>
            <a:avLst/>
            <a:gdLst/>
            <a:ahLst/>
            <a:rect l="l" t="t" r="r" b="b"/>
            <a:pathLst>
              <a:path w="615950" h="140335">
                <a:moveTo>
                  <a:pt x="0" y="140208"/>
                </a:moveTo>
                <a:lnTo>
                  <a:pt x="615696" y="140208"/>
                </a:lnTo>
                <a:lnTo>
                  <a:pt x="61569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object 166"/>
          <p:cNvSpPr/>
          <p:nvPr/>
        </p:nvSpPr>
        <p:spPr>
          <a:xfrm>
            <a:off x="561960" y="3895560"/>
            <a:ext cx="641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object 167"/>
          <p:cNvSpPr/>
          <p:nvPr/>
        </p:nvSpPr>
        <p:spPr>
          <a:xfrm>
            <a:off x="4119480" y="3768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object 168"/>
          <p:cNvSpPr/>
          <p:nvPr/>
        </p:nvSpPr>
        <p:spPr>
          <a:xfrm>
            <a:off x="4106880" y="3743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object 169"/>
          <p:cNvSpPr/>
          <p:nvPr/>
        </p:nvSpPr>
        <p:spPr>
          <a:xfrm>
            <a:off x="573120" y="4073400"/>
            <a:ext cx="1793880" cy="141480"/>
          </a:xfrm>
          <a:custGeom>
            <a:avLst/>
            <a:gdLst/>
            <a:ahLst/>
            <a:rect l="l" t="t" r="r" b="b"/>
            <a:pathLst>
              <a:path w="1792605" h="140335">
                <a:moveTo>
                  <a:pt x="0" y="140208"/>
                </a:moveTo>
                <a:lnTo>
                  <a:pt x="1792224" y="140208"/>
                </a:lnTo>
                <a:lnTo>
                  <a:pt x="17922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object 170"/>
          <p:cNvSpPr/>
          <p:nvPr/>
        </p:nvSpPr>
        <p:spPr>
          <a:xfrm>
            <a:off x="561960" y="4048200"/>
            <a:ext cx="1816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наружных полов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object 171"/>
          <p:cNvSpPr/>
          <p:nvPr/>
        </p:nvSpPr>
        <p:spPr>
          <a:xfrm>
            <a:off x="4119480" y="40734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object 172"/>
          <p:cNvSpPr/>
          <p:nvPr/>
        </p:nvSpPr>
        <p:spPr>
          <a:xfrm>
            <a:off x="4106880" y="40482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object 173"/>
          <p:cNvSpPr/>
          <p:nvPr/>
        </p:nvSpPr>
        <p:spPr>
          <a:xfrm>
            <a:off x="573120" y="4226040"/>
            <a:ext cx="1216080" cy="141120"/>
          </a:xfrm>
          <a:custGeom>
            <a:avLst/>
            <a:gdLst/>
            <a:ahLst/>
            <a:rect l="l" t="t" r="r" b="b"/>
            <a:pathLst>
              <a:path w="1214755" h="140335">
                <a:moveTo>
                  <a:pt x="0" y="140208"/>
                </a:moveTo>
                <a:lnTo>
                  <a:pt x="1214628" y="140208"/>
                </a:lnTo>
                <a:lnTo>
                  <a:pt x="1214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object 174"/>
          <p:cNvSpPr/>
          <p:nvPr/>
        </p:nvSpPr>
        <p:spPr>
          <a:xfrm>
            <a:off x="1808280" y="42260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object 175"/>
          <p:cNvSpPr/>
          <p:nvPr/>
        </p:nvSpPr>
        <p:spPr>
          <a:xfrm>
            <a:off x="1827360" y="4226040"/>
            <a:ext cx="736560" cy="141120"/>
          </a:xfrm>
          <a:custGeom>
            <a:avLst/>
            <a:gdLst/>
            <a:ahLst/>
            <a:rect l="l" t="t" r="r" b="b"/>
            <a:pathLst>
              <a:path w="737869" h="140335">
                <a:moveTo>
                  <a:pt x="0" y="140208"/>
                </a:moveTo>
                <a:lnTo>
                  <a:pt x="737615" y="140208"/>
                </a:lnTo>
                <a:lnTo>
                  <a:pt x="7376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object 176"/>
          <p:cNvSpPr/>
          <p:nvPr/>
        </p:nvSpPr>
        <p:spPr>
          <a:xfrm>
            <a:off x="561960" y="4200480"/>
            <a:ext cx="2016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осонографическ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object 177"/>
          <p:cNvSpPr/>
          <p:nvPr/>
        </p:nvSpPr>
        <p:spPr>
          <a:xfrm>
            <a:off x="4119480" y="42260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object 178"/>
          <p:cNvSpPr/>
          <p:nvPr/>
        </p:nvSpPr>
        <p:spPr>
          <a:xfrm>
            <a:off x="4106880" y="42004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object 179"/>
          <p:cNvSpPr/>
          <p:nvPr/>
        </p:nvSpPr>
        <p:spPr>
          <a:xfrm>
            <a:off x="573120" y="4378320"/>
            <a:ext cx="1708200" cy="141120"/>
          </a:xfrm>
          <a:custGeom>
            <a:avLst/>
            <a:gdLst/>
            <a:ahLst/>
            <a:rect l="l" t="t" r="r" b="b"/>
            <a:pathLst>
              <a:path w="1706880" h="140335">
                <a:moveTo>
                  <a:pt x="0" y="140208"/>
                </a:moveTo>
                <a:lnTo>
                  <a:pt x="1706879" y="140208"/>
                </a:lnTo>
                <a:lnTo>
                  <a:pt x="170687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object 180"/>
          <p:cNvSpPr/>
          <p:nvPr/>
        </p:nvSpPr>
        <p:spPr>
          <a:xfrm>
            <a:off x="561960" y="4352760"/>
            <a:ext cx="1730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ая денситометр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object 181"/>
          <p:cNvSpPr/>
          <p:nvPr/>
        </p:nvSpPr>
        <p:spPr>
          <a:xfrm>
            <a:off x="4119480" y="43783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object 182"/>
          <p:cNvSpPr/>
          <p:nvPr/>
        </p:nvSpPr>
        <p:spPr>
          <a:xfrm>
            <a:off x="4106880" y="43527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object 183"/>
          <p:cNvSpPr/>
          <p:nvPr/>
        </p:nvSpPr>
        <p:spPr>
          <a:xfrm>
            <a:off x="7359480" y="43783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object 184"/>
          <p:cNvSpPr/>
          <p:nvPr/>
        </p:nvSpPr>
        <p:spPr>
          <a:xfrm>
            <a:off x="7348680" y="43527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object 185"/>
          <p:cNvSpPr/>
          <p:nvPr/>
        </p:nvSpPr>
        <p:spPr>
          <a:xfrm>
            <a:off x="8223120" y="43783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object 186"/>
          <p:cNvSpPr/>
          <p:nvPr/>
        </p:nvSpPr>
        <p:spPr>
          <a:xfrm>
            <a:off x="8211960" y="43527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object 187"/>
          <p:cNvSpPr/>
          <p:nvPr/>
        </p:nvSpPr>
        <p:spPr>
          <a:xfrm>
            <a:off x="573120" y="4530600"/>
            <a:ext cx="1895400" cy="141480"/>
          </a:xfrm>
          <a:custGeom>
            <a:avLst/>
            <a:gdLst/>
            <a:ahLst/>
            <a:rect l="l" t="t" r="r" b="b"/>
            <a:pathLst>
              <a:path w="1894839" h="140335">
                <a:moveTo>
                  <a:pt x="0" y="140208"/>
                </a:moveTo>
                <a:lnTo>
                  <a:pt x="1894331" y="140208"/>
                </a:lnTo>
                <a:lnTo>
                  <a:pt x="18943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object 188"/>
          <p:cNvSpPr/>
          <p:nvPr/>
        </p:nvSpPr>
        <p:spPr>
          <a:xfrm>
            <a:off x="561960" y="4505400"/>
            <a:ext cx="19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раоперационны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object 189"/>
          <p:cNvSpPr/>
          <p:nvPr/>
        </p:nvSpPr>
        <p:spPr>
          <a:xfrm>
            <a:off x="4119480" y="45306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object 190"/>
          <p:cNvSpPr/>
          <p:nvPr/>
        </p:nvSpPr>
        <p:spPr>
          <a:xfrm>
            <a:off x="4106880" y="45054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object 191"/>
          <p:cNvSpPr/>
          <p:nvPr/>
        </p:nvSpPr>
        <p:spPr>
          <a:xfrm>
            <a:off x="573120" y="4683240"/>
            <a:ext cx="1177920" cy="141120"/>
          </a:xfrm>
          <a:custGeom>
            <a:avLst/>
            <a:gdLst/>
            <a:ahLst/>
            <a:rect l="l" t="t" r="r" b="b"/>
            <a:pathLst>
              <a:path w="1176655" h="140335">
                <a:moveTo>
                  <a:pt x="0" y="140208"/>
                </a:moveTo>
                <a:lnTo>
                  <a:pt x="1176528" y="140208"/>
                </a:lnTo>
                <a:lnTo>
                  <a:pt x="11765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object 192"/>
          <p:cNvSpPr/>
          <p:nvPr/>
        </p:nvSpPr>
        <p:spPr>
          <a:xfrm>
            <a:off x="561960" y="4657680"/>
            <a:ext cx="1200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object 193"/>
          <p:cNvSpPr/>
          <p:nvPr/>
        </p:nvSpPr>
        <p:spPr>
          <a:xfrm>
            <a:off x="4119480" y="46832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object 194"/>
          <p:cNvSpPr/>
          <p:nvPr/>
        </p:nvSpPr>
        <p:spPr>
          <a:xfrm>
            <a:off x="4106880" y="46576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object 195"/>
          <p:cNvSpPr/>
          <p:nvPr/>
        </p:nvSpPr>
        <p:spPr>
          <a:xfrm>
            <a:off x="533520" y="4835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2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object 196"/>
          <p:cNvSpPr/>
          <p:nvPr/>
        </p:nvSpPr>
        <p:spPr>
          <a:xfrm>
            <a:off x="565200" y="4835520"/>
            <a:ext cx="2819520" cy="141120"/>
          </a:xfrm>
          <a:custGeom>
            <a:avLst/>
            <a:gdLst/>
            <a:ahLst/>
            <a:rect l="l" t="t" r="r" b="b"/>
            <a:pathLst>
              <a:path w="2819400" h="140335">
                <a:moveTo>
                  <a:pt x="0" y="140208"/>
                </a:moveTo>
                <a:lnTo>
                  <a:pt x="2819400" y="140208"/>
                </a:lnTo>
                <a:lnTo>
                  <a:pt x="28194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object 197"/>
          <p:cNvSpPr/>
          <p:nvPr/>
        </p:nvSpPr>
        <p:spPr>
          <a:xfrm>
            <a:off x="552600" y="4809960"/>
            <a:ext cx="28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общего числа исследований (стр. 1) выполнено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object 198"/>
          <p:cNvSpPr/>
          <p:nvPr/>
        </p:nvSpPr>
        <p:spPr>
          <a:xfrm>
            <a:off x="754200" y="4987800"/>
            <a:ext cx="1804680" cy="141480"/>
          </a:xfrm>
          <a:custGeom>
            <a:avLst/>
            <a:gdLst/>
            <a:ahLst/>
            <a:rect l="l" t="t" r="r" b="b"/>
            <a:pathLst>
              <a:path w="1804670" h="140335">
                <a:moveTo>
                  <a:pt x="0" y="140208"/>
                </a:moveTo>
                <a:lnTo>
                  <a:pt x="1804416" y="140208"/>
                </a:lnTo>
                <a:lnTo>
                  <a:pt x="18044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object 199"/>
          <p:cNvSpPr/>
          <p:nvPr/>
        </p:nvSpPr>
        <p:spPr>
          <a:xfrm>
            <a:off x="741240" y="4962600"/>
            <a:ext cx="182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рожденным и детям до 2 ле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object 200"/>
          <p:cNvSpPr/>
          <p:nvPr/>
        </p:nvSpPr>
        <p:spPr>
          <a:xfrm>
            <a:off x="4119480" y="4911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object 201"/>
          <p:cNvSpPr/>
          <p:nvPr/>
        </p:nvSpPr>
        <p:spPr>
          <a:xfrm>
            <a:off x="4106880" y="4886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object 202"/>
          <p:cNvSpPr/>
          <p:nvPr/>
        </p:nvSpPr>
        <p:spPr>
          <a:xfrm>
            <a:off x="501480" y="514044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object 203"/>
          <p:cNvSpPr/>
          <p:nvPr/>
        </p:nvSpPr>
        <p:spPr>
          <a:xfrm>
            <a:off x="755640" y="5140440"/>
            <a:ext cx="2260440" cy="141120"/>
          </a:xfrm>
          <a:custGeom>
            <a:avLst/>
            <a:gdLst/>
            <a:ahLst/>
            <a:rect l="l" t="t" r="r" b="b"/>
            <a:pathLst>
              <a:path w="2261870" h="140335">
                <a:moveTo>
                  <a:pt x="0" y="140208"/>
                </a:moveTo>
                <a:lnTo>
                  <a:pt x="2261616" y="140208"/>
                </a:lnTo>
                <a:lnTo>
                  <a:pt x="22616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object 204"/>
          <p:cNvSpPr/>
          <p:nvPr/>
        </p:nvSpPr>
        <p:spPr>
          <a:xfrm>
            <a:off x="743040" y="5114880"/>
            <a:ext cx="2284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внутривенным контрастировани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object 205"/>
          <p:cNvSpPr/>
          <p:nvPr/>
        </p:nvSpPr>
        <p:spPr>
          <a:xfrm>
            <a:off x="4119480" y="51404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object 206"/>
          <p:cNvSpPr/>
          <p:nvPr/>
        </p:nvSpPr>
        <p:spPr>
          <a:xfrm>
            <a:off x="4106880" y="51148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object 207"/>
          <p:cNvSpPr/>
          <p:nvPr/>
        </p:nvSpPr>
        <p:spPr>
          <a:xfrm>
            <a:off x="7359480" y="51404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object 208"/>
          <p:cNvSpPr/>
          <p:nvPr/>
        </p:nvSpPr>
        <p:spPr>
          <a:xfrm>
            <a:off x="7348680" y="51148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object 209"/>
          <p:cNvSpPr/>
          <p:nvPr/>
        </p:nvSpPr>
        <p:spPr>
          <a:xfrm>
            <a:off x="8223120" y="51404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object 210"/>
          <p:cNvSpPr/>
          <p:nvPr/>
        </p:nvSpPr>
        <p:spPr>
          <a:xfrm>
            <a:off x="8211960" y="51148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object 211"/>
          <p:cNvSpPr/>
          <p:nvPr/>
        </p:nvSpPr>
        <p:spPr>
          <a:xfrm>
            <a:off x="501480" y="529272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object 212"/>
          <p:cNvSpPr/>
          <p:nvPr/>
        </p:nvSpPr>
        <p:spPr>
          <a:xfrm>
            <a:off x="755640" y="5292720"/>
            <a:ext cx="365040" cy="141120"/>
          </a:xfrm>
          <a:custGeom>
            <a:avLst/>
            <a:gdLst/>
            <a:ahLst/>
            <a:rect l="l" t="t" r="r" b="b"/>
            <a:pathLst>
              <a:path w="365759" h="140335">
                <a:moveTo>
                  <a:pt x="0" y="140208"/>
                </a:moveTo>
                <a:lnTo>
                  <a:pt x="365759" y="140208"/>
                </a:lnTo>
                <a:lnTo>
                  <a:pt x="36575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object 213"/>
          <p:cNvSpPr/>
          <p:nvPr/>
        </p:nvSpPr>
        <p:spPr>
          <a:xfrm>
            <a:off x="1120680" y="5292720"/>
            <a:ext cx="793800" cy="141120"/>
          </a:xfrm>
          <a:custGeom>
            <a:avLst/>
            <a:gdLst/>
            <a:ahLst/>
            <a:rect l="l" t="t" r="r" b="b"/>
            <a:pathLst>
              <a:path w="794385" h="140335">
                <a:moveTo>
                  <a:pt x="0" y="140208"/>
                </a:moveTo>
                <a:lnTo>
                  <a:pt x="794004" y="140208"/>
                </a:lnTo>
                <a:lnTo>
                  <a:pt x="79400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object 214"/>
          <p:cNvSpPr/>
          <p:nvPr/>
        </p:nvSpPr>
        <p:spPr>
          <a:xfrm>
            <a:off x="743040" y="5267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эластографи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object 215"/>
          <p:cNvSpPr/>
          <p:nvPr/>
        </p:nvSpPr>
        <p:spPr>
          <a:xfrm>
            <a:off x="4119480" y="5292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object 216"/>
          <p:cNvSpPr/>
          <p:nvPr/>
        </p:nvSpPr>
        <p:spPr>
          <a:xfrm>
            <a:off x="4106880" y="5267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object 217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+ 7 914 – 462 – 14 - 99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mr.mmv008@yandex.ru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Line 4"/>
          <p:cNvSpPr/>
          <p:nvPr/>
        </p:nvSpPr>
        <p:spPr>
          <a:xfrm>
            <a:off x="1116000" y="1052640"/>
            <a:ext cx="802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1:27:00Z</dcterms:created>
  <dc:creator>User</dc:creator>
  <dc:description/>
  <dc:language>en-US</dc:language>
  <cp:lastModifiedBy>Елена Александровна Бронникова</cp:lastModifiedBy>
  <dcterms:modified xsi:type="dcterms:W3CDTF">2019-12-20T01:10:33Z</dcterms:modified>
  <cp:revision>221</cp:revision>
  <dc:subject/>
  <dc:title>КОЛИЧЕСТВЕННЫЕ ПОКАЗАТЕЛИ РАБОТЫ</dc:title>
</cp:coreProperties>
</file>