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48B-B10A-4D8B-96E7-4DE422D16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E8CC-7613-4FD2-9914-8EFC1047DB2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BC4-CEC5-414F-BC2D-32727740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028-0695-4D7F-B0F4-A9647D5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662-130C-4F2B-ADFA-C4F86734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3C4-3D0D-4ECE-8A69-DAB2E1A5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1BD-B963-4011-A293-89AAD76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3E1-CA3C-45EE-BAA6-D5A2CB7F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CF7-C8DF-43BD-A4CF-50C0399A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5EF-F152-4144-88F9-9A521D55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055-CEF4-4835-9B25-97EDC875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39D-12D0-432C-9AF8-F5BAACD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095-C82E-4BFA-8819-B9F11AEC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000-F9C7-4F41-88B1-EAF66868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1ED7-6E89-403E-8F81-D32535D4D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ет за 201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ональная диагно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989000"/>
          <a:ext cx="8353440" cy="1870200"/>
        </p:xfrm>
        <a:graphic>
          <a:graphicData uri="http://schemas.openxmlformats.org/drawingml/2006/table">
            <a:tbl>
              <a:tblPr/>
              <a:tblGrid>
                <a:gridCol w="466560"/>
                <a:gridCol w="1646280"/>
                <a:gridCol w="1290600"/>
                <a:gridCol w="773280"/>
                <a:gridCol w="1033560"/>
                <a:gridCol w="1788840"/>
                <a:gridCol w="1354320"/>
              </a:tblGrid>
              <a:tr h="23904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вра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й или совмест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сли совместитель – основная специально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е выполня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ми владе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324000" y="1484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1497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ПА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4797360"/>
          <a:ext cx="8353440" cy="365040"/>
        </p:xfrm>
        <a:graphic>
          <a:graphicData uri="http://schemas.openxmlformats.org/drawingml/2006/table">
            <a:tbl>
              <a:tblPr/>
              <a:tblGrid>
                <a:gridCol w="520560"/>
                <a:gridCol w="2916360"/>
                <a:gridCol w="2227320"/>
                <a:gridCol w="1481040"/>
                <a:gridCol w="1208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ввод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. состоя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компьютерные электрокардиографы – аппараты (Кардиометр, Поли-Спектр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Easy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Dongl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ардиофлешк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ультразвуковые методы (ЭхоКГ, УЗДГ сосудов, ЭхоЭГ, нейросонография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30 форме – в отчет по УЗ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 в пояснительной записке указать количество и на каком аппара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ульсоксиметрию в рамках врачебного осмотра в отчет не внос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134136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кан Виталий Стани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ая клиническая больница на ст.Чита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Ж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Чита, ул.Горбунова,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раб:  8 914 516 57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сот:   8 924 270 93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ly.barkan@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9T00:55:17Z</dcterms:created>
  <dc:creator>пк</dc:creator>
  <dc:description/>
  <dc:language>en-US</dc:language>
  <cp:lastModifiedBy>пк</cp:lastModifiedBy>
  <dcterms:modified xsi:type="dcterms:W3CDTF">2019-12-19T04:31:56Z</dcterms:modified>
  <cp:revision>20</cp:revision>
  <dc:subject/>
  <dc:title>Слайд 1</dc:title>
</cp:coreProperties>
</file>