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2E74-D654-4D53-B5A9-E3995E703E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7C02-9EAE-4F4C-87A1-7D2F7198EF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8D3C-4C97-43B5-B1FD-B9ED1B3646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0380-A54C-4E92-89E9-4CB69ABEEE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6BE6-D085-47CD-90A9-4D4C6392E0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BB1B-DCE4-4AB4-95F5-06E33A23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6CE7-4AB2-4091-A61E-542FD011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8D31-55E1-44B3-BF16-5C902F452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71EA-340C-47AF-B339-5FB82D0CD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3AC4-5450-448E-8DDB-E439851E6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284C-A083-4C9F-BFD2-03B51A10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B601-BD0A-4215-B000-FFC01658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05D0-8321-4887-B37D-ED0C3CF4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DFCB-279A-4484-9E9D-285D69A1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F13C-A31A-4C8F-AD84-002913EF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DEDA-C113-4225-A254-8D922769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94FD-E3CE-44D6-8FA5-F34007DA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96F3-6005-43FE-8CA4-056CB9FE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76D5-D981-4BC1-98FC-D2AAB7C9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FE11-7B23-46BC-9F21-441439C7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C043-7ADF-4F67-86FA-F5EE728A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CA43-C942-4824-ACE4-34903DA0B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2260-11C4-474E-AC85-3883A701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69DF-FB0E-4005-939D-11F29923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1E95-53F9-4A22-B6B7-D229EAA2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4E44-8F52-4FFA-B161-78B302F8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6B23-937A-4229-9765-8AE29248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5C1C-1D08-4A88-A596-70E3A868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E557-E978-4471-9EA4-2F8CFE29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7"/>
          <p:cNvSpPr/>
          <p:nvPr/>
        </p:nvSpPr>
        <p:spPr>
          <a:xfrm rot="16200000">
            <a:off x="-2473200" y="2672640"/>
            <a:ext cx="6629400" cy="1587600"/>
          </a:xfrm>
          <a:custGeom>
            <a:avLst/>
            <a:gdLst>
              <a:gd name="textAreaLeft" fmla="*/ 0 w 6629400"/>
              <a:gd name="textAreaRight" fmla="*/ 6629760 w 6629400"/>
              <a:gd name="textAreaTop" fmla="*/ 0 h 1587600"/>
              <a:gd name="textAreaBottom" fmla="*/ 1587960 h 1587600"/>
            </a:gdLst>
            <a:ahLst/>
            <a:rect l="textAreaLeft" t="textAreaTop" r="textAreaRight" b="textAreaBottom"/>
            <a:pathLst>
              <a:path w="5693" h="1000">
                <a:moveTo>
                  <a:pt x="0" y="584"/>
                </a:moveTo>
                <a:cubicBezTo>
                  <a:pt x="249" y="545"/>
                  <a:pt x="844" y="377"/>
                  <a:pt x="1504" y="352"/>
                </a:cubicBezTo>
                <a:cubicBezTo>
                  <a:pt x="2168" y="300"/>
                  <a:pt x="3246" y="322"/>
                  <a:pt x="3960" y="432"/>
                </a:cubicBezTo>
                <a:cubicBezTo>
                  <a:pt x="4641" y="548"/>
                  <a:pt x="5616" y="920"/>
                  <a:pt x="5688" y="1000"/>
                </a:cubicBezTo>
                <a:lnTo>
                  <a:pt x="5693" y="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a2ccfa"/>
              </a:gs>
              <a:gs pos="100000">
                <a:srgbClr val="e5f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28"/>
          <p:cNvSpPr/>
          <p:nvPr/>
        </p:nvSpPr>
        <p:spPr>
          <a:xfrm>
            <a:off x="63360" y="63360"/>
            <a:ext cx="9037800" cy="1605240"/>
          </a:xfrm>
          <a:custGeom>
            <a:avLst/>
            <a:gdLst>
              <a:gd name="textAreaLeft" fmla="*/ 0 w 9037800"/>
              <a:gd name="textAreaRight" fmla="*/ 9038160 w 9037800"/>
              <a:gd name="textAreaTop" fmla="*/ 0 h 1605240"/>
              <a:gd name="textAreaBottom" fmla="*/ 1605600 h 1605240"/>
            </a:gdLst>
            <a:ahLst/>
            <a:rect l="textAreaLeft" t="textAreaTop" r="textAreaRight" b="textAreaBottom"/>
            <a:pathLst>
              <a:path w="5693" h="1000">
                <a:moveTo>
                  <a:pt x="0" y="584"/>
                </a:moveTo>
                <a:cubicBezTo>
                  <a:pt x="253" y="552"/>
                  <a:pt x="820" y="405"/>
                  <a:pt x="1520" y="392"/>
                </a:cubicBezTo>
                <a:cubicBezTo>
                  <a:pt x="2184" y="340"/>
                  <a:pt x="3486" y="394"/>
                  <a:pt x="4200" y="504"/>
                </a:cubicBezTo>
                <a:cubicBezTo>
                  <a:pt x="4881" y="620"/>
                  <a:pt x="5616" y="920"/>
                  <a:pt x="5688" y="1000"/>
                </a:cubicBezTo>
                <a:lnTo>
                  <a:pt x="5693" y="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e7f2fe"/>
              </a:gs>
              <a:gs pos="100000">
                <a:srgbClr val="a2cc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29"/>
          <p:cNvSpPr/>
          <p:nvPr/>
        </p:nvSpPr>
        <p:spPr>
          <a:xfrm>
            <a:off x="324000" y="6500880"/>
            <a:ext cx="8569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30"/>
          <p:cNvGrpSpPr/>
          <p:nvPr/>
        </p:nvGrpSpPr>
        <p:grpSpPr>
          <a:xfrm>
            <a:off x="0" y="3240"/>
            <a:ext cx="9144000" cy="6854760"/>
            <a:chOff x="0" y="3240"/>
            <a:chExt cx="9144000" cy="6854760"/>
          </a:xfrm>
        </p:grpSpPr>
        <p:grpSp>
          <p:nvGrpSpPr>
            <p:cNvPr id="4" name="Group 31"/>
            <p:cNvGrpSpPr/>
            <p:nvPr/>
          </p:nvGrpSpPr>
          <p:grpSpPr>
            <a:xfrm>
              <a:off x="0" y="3240"/>
              <a:ext cx="9144000" cy="6854760"/>
              <a:chOff x="0" y="3240"/>
              <a:chExt cx="9144000" cy="6854760"/>
            </a:xfrm>
          </p:grpSpPr>
          <p:sp>
            <p:nvSpPr>
              <p:cNvPr id="5" name="Freeform 32"/>
              <p:cNvSpPr/>
              <p:nvPr/>
            </p:nvSpPr>
            <p:spPr>
              <a:xfrm>
                <a:off x="0" y="6386400"/>
                <a:ext cx="436680" cy="471600"/>
              </a:xfrm>
              <a:custGeom>
                <a:avLst/>
                <a:gdLst>
                  <a:gd name="textAreaLeft" fmla="*/ 0 w 436680"/>
                  <a:gd name="textAreaRight" fmla="*/ 436680 w 436680"/>
                  <a:gd name="textAreaTop" fmla="*/ 0 h 471600"/>
                  <a:gd name="textAreaBottom" fmla="*/ 471960 h 471600"/>
                </a:gdLst>
                <a:ahLst/>
                <a:rect l="textAreaLeft" t="textAreaTop" r="textAreaRight" b="textAreaBottom"/>
                <a:pathLst>
                  <a:path w="275" h="297">
                    <a:moveTo>
                      <a:pt x="275" y="291"/>
                    </a:moveTo>
                    <a:lnTo>
                      <a:pt x="112" y="211"/>
                    </a:lnTo>
                    <a:lnTo>
                      <a:pt x="28" y="127"/>
                    </a:lnTo>
                    <a:lnTo>
                      <a:pt x="0" y="0"/>
                    </a:lnTo>
                    <a:lnTo>
                      <a:pt x="1" y="29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33"/>
              <p:cNvSpPr/>
              <p:nvPr/>
            </p:nvSpPr>
            <p:spPr>
              <a:xfrm>
                <a:off x="31680" y="41400"/>
                <a:ext cx="9072720" cy="6770520"/>
              </a:xfrm>
              <a:prstGeom prst="roundRect">
                <a:avLst>
                  <a:gd name="adj" fmla="val 6227"/>
                </a:avLst>
              </a:prstGeom>
              <a:noFill/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34"/>
              <p:cNvSpPr/>
              <p:nvPr/>
            </p:nvSpPr>
            <p:spPr>
              <a:xfrm>
                <a:off x="0" y="3240"/>
                <a:ext cx="460440" cy="50004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290" h="315">
                    <a:moveTo>
                      <a:pt x="1" y="315"/>
                    </a:moveTo>
                    <a:cubicBezTo>
                      <a:pt x="21" y="279"/>
                      <a:pt x="76" y="150"/>
                      <a:pt x="122" y="97"/>
                    </a:cubicBezTo>
                    <a:cubicBezTo>
                      <a:pt x="163" y="44"/>
                      <a:pt x="290" y="23"/>
                      <a:pt x="279" y="0"/>
                    </a:cubicBez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35"/>
              <p:cNvSpPr/>
              <p:nvPr/>
            </p:nvSpPr>
            <p:spPr>
              <a:xfrm>
                <a:off x="8742240" y="6399360"/>
                <a:ext cx="401760" cy="45540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455400"/>
                  <a:gd name="textAreaBottom" fmla="*/ 455760 h 455400"/>
                </a:gdLst>
                <a:ahLst/>
                <a:rect l="textAreaLeft" t="textAreaTop" r="textAreaRight" b="textAreaBottom"/>
                <a:pathLst>
                  <a:path w="253" h="287">
                    <a:moveTo>
                      <a:pt x="250" y="0"/>
                    </a:moveTo>
                    <a:lnTo>
                      <a:pt x="179" y="143"/>
                    </a:lnTo>
                    <a:lnTo>
                      <a:pt x="85" y="236"/>
                    </a:lnTo>
                    <a:lnTo>
                      <a:pt x="0" y="287"/>
                    </a:lnTo>
                    <a:lnTo>
                      <a:pt x="253" y="284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Freeform 36"/>
            <p:cNvSpPr/>
            <p:nvPr/>
          </p:nvSpPr>
          <p:spPr>
            <a:xfrm>
              <a:off x="8691480" y="4680"/>
              <a:ext cx="446040" cy="54612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281" h="348">
                  <a:moveTo>
                    <a:pt x="0" y="0"/>
                  </a:moveTo>
                  <a:cubicBezTo>
                    <a:pt x="33" y="16"/>
                    <a:pt x="125" y="6"/>
                    <a:pt x="202" y="96"/>
                  </a:cubicBezTo>
                  <a:cubicBezTo>
                    <a:pt x="279" y="186"/>
                    <a:pt x="268" y="348"/>
                    <a:pt x="281" y="332"/>
                  </a:cubicBezTo>
                  <a:lnTo>
                    <a:pt x="28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270000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03B1-50C1-463D-A4AA-50715651CC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Picture 38" descr="doct___19"/>
          <p:cNvPicPr/>
          <p:nvPr/>
        </p:nvPicPr>
        <p:blipFill>
          <a:blip r:embed="rId2"/>
          <a:stretch/>
        </p:blipFill>
        <p:spPr>
          <a:xfrm>
            <a:off x="324000" y="476280"/>
            <a:ext cx="755640" cy="49068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39" descr="diagr_08"/>
          <p:cNvPicPr/>
          <p:nvPr/>
        </p:nvPicPr>
        <p:blipFill>
          <a:blip r:embed="rId3"/>
          <a:stretch/>
        </p:blipFill>
        <p:spPr>
          <a:xfrm>
            <a:off x="0" y="0"/>
            <a:ext cx="601560" cy="73836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37" descr="diagr_11"/>
          <p:cNvPicPr/>
          <p:nvPr/>
        </p:nvPicPr>
        <p:blipFill>
          <a:blip r:embed="rId4"/>
          <a:stretch/>
        </p:blipFill>
        <p:spPr>
          <a:xfrm>
            <a:off x="108000" y="549360"/>
            <a:ext cx="431640" cy="30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813D-AFAC-4803-8FE5-7EAFABACC7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1989000"/>
            <a:ext cx="8280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Дополнительные разъяснения к инструкции по заполнению отчетной формы №61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«Сведения о болезни, вызванной вирусом иммунодефицита человека»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за 2019 г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4360" y="5300640"/>
            <a:ext cx="76327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атьяна Анатольевна Максимен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лавный внештатный специалист по проблемам диагностики и лечения ВИЧ – инфекции МЗ З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 строку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показывается число пациентов, с ВИЧ-инфекцией с проявлениями туберкулё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 строке 16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ывается число пациентов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 ВИЧ-инфекцией с проявлениями Т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ды В20.0, В20.7, В22.7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и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умерших в отчетном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 всех причин, то есть использу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коды В20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3A86-8ABE-4896-B3D8-96ADF60D09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5000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межформенный контроль с формой 13 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ой 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28640"/>
            <a:ext cx="8229600" cy="40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у 5000 включают женщин, проживающих на прикрепленной территории и находящихся под диспансерным наблюдением в данной медицинской орган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1 показывается общее число беременных женщин с болезнью, вызванной ВИЧ,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вершивших беременность в отчетном год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строке 2 показываются сведения о тех из них, кто завершил беременность родами в отчетном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DE45-2952-4E6D-9911-FA0B53A58C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6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6000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рафе 3 пок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ее число пациенто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болезнью, вызванной ВИЧ, из числа состоявших под наблюдением в отчетном году, зарегистрированных для лечен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рафе 4 - те из них, кто был зарегистрирован для лечен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впервые в жизни установленным диагнозо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зни, вызванной ВИЧ.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рафа 5 не заполняе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4076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зываются только те пациенты с ВИЧ-инфекцией, которые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ыли пролече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в текущем году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– 2019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576A-3348-4224-88A6-4A305ABF0F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: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itaids@kkib.sibhost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5A26-E3D3-44E4-9B18-BD6B834582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строчник 3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ючает в себя только тех лиц, которые были обследованы на антитела к ВИЧ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текущем год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едицинских организациях, относящихся к Минздраву Росс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рока 1, пункт 2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исло лиц, у которых при исследовании крови на антитела к ВИЧ в отчетном году, получены положитель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словия контроля: строка 1, пункт 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&gt;=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пункт 3 (В20-24)+пункт 4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C2A1-1CE7-41DB-9F9F-DEFFCC4E70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95280" y="476280"/>
            <a:ext cx="86090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0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обследованных на антитела к ВИЧ в отчетном году, вс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онтроль с ф.30, т.530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число лиц, у которых при исследовании крови на антитела к ВИЧ получены положительные результа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          контроль с ф.30, т.530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(из стр.2) выявлено: пациентов больных ВИЧ-инфекцией (код МКБ 10 В20-В24) 3 _</a:t>
            </a:r>
            <a:r>
              <a:rPr b="0" lang="ru-RU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контроль с ф.61, т.1000, стр.1+2, гр. 05_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 с бессимптомным инфекционным статусом (код МКБ-10 Z21)  4</a:t>
            </a:r>
            <a:r>
              <a:rPr b="0" lang="ru-RU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__контроль с ф.61, т.1000, стр.59+60, гр. 05_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0" y="27000"/>
            <a:ext cx="160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981000"/>
            <a:ext cx="8300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роки 1+2, гр. 5-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уются из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строчника 3100, пункт2-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ыявлено в отчетном году пациентов с ВИЧ-инфекцией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ды В20-В2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»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полнитель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ужны данные по возрастам и по кодам В20-В2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роки 1+2, графы 5-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осятся сведе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других ведомст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45+46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ом числе сведе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учр. ФС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 47+4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полнительно нужны данные по возрастам и по кодам В20-В2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таб.1000, стр.1+2, гр.5-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ь сведений переносится в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41-4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ельские жите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43-4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ица БОМЖ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р.49-5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смертные случа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51-5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остранные граждан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2627280" y="6519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CDDD-0EAC-49B4-B458-DEDC6CBF5D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1000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тр.57- 60, гр.5-1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уются и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тр.57-5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нтактные лиц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20.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включают в себя сведения о пациентах, зарегистрированных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М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ужны данные по возраст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тр. 59-6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) формиру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подстрочника 3100, пункт  4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ополнительно нужны данные по возраст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0628-F48E-4069-AA7F-45389EA9A6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Стр. 1-8, графы 5-6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первые выявленные паци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формируются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з подстрочника 3100,  пункт 1-3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кроме посмертных случаев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Стр. 10, графы 5-6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первые выявленные паци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формируютс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з подстрочник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100, пункт 4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Стр. 9, графы 5-6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первые выявленные паци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формируютс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з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аб.1000, стр.57-58, гр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4CBD-414A-4E4E-8788-C9C90F1F89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линические стад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пациентов с ВИЧ-инфекцией показываются в строках 1-8 и только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графах 16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BC19-3D70-4027-BD3F-CFDC1A9DF9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аблице 3000 показываются только те пациенты с ВИЧ-инфекцией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торые были обследов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в отчетном году – 2019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14E4-6B6E-444B-AA27-F689199942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492120" y="1555920"/>
          <a:ext cx="8228160" cy="4735440"/>
        </p:xfrm>
        <a:graphic>
          <a:graphicData uri="http://schemas.openxmlformats.org/drawingml/2006/table">
            <a:tbl>
              <a:tblPr/>
              <a:tblGrid>
                <a:gridCol w="3384720"/>
                <a:gridCol w="384120"/>
                <a:gridCol w="768240"/>
                <a:gridCol w="923760"/>
                <a:gridCol w="922680"/>
                <a:gridCol w="922320"/>
                <a:gridCol w="922320"/>
              </a:tblGrid>
              <a:tr h="386640">
                <a:tc rowSpan="2"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8320" rIns="58320" tIns="0" bIns="0" anchor="ctr">
                      <a:noAutofit/>
                    </a:bodyPr>
                    <a:p>
                      <a:pPr marL="20520"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МКБ-1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с впервые в жизни установленным диагно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ит под диспансерным наблюдением на конец отчетного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возраст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44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возраст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44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60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ы, больные ВИЧ-инфекцией с проявлениями туберкулеза, 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.0, В20.7, В22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с проявлениями туберкулез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оявлениями туберкулеза и других инфекц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оявлениями туберкулеза и других болезней  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2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ациентов (из стр.1): с бактериовыделением, определяемым любыми метод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5): методом простой микроскопии мокрот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64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пациентов (из стр.5):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множественной лекарственной устойчивостью микобактерий туберкулез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58320" rIns="58320" tIns="0" bIns="0" anchor="ctr">
                      <a:noAutofit/>
                    </a:bodyPr>
                    <a:p>
                      <a:pPr marL="290520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широкой лекарственной устойчивостью микобактерий туберкулез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пациентов (из стр.1) обследовано на иммунный стату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64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имели уровень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:    более 3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-3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64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2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ы, больные ВИЧ-инфекцией с проявлениями туберкулеза, которым установлен диагноз вирусного гепатита (из стр.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гепатит 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6, В18.0, В18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патит 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7.1, В18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6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ациентов, всего (из стр.1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ациентов (из стр.1) – мужчи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ациентов (из стр.1) – городских жител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565200" y="827640"/>
            <a:ext cx="81565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ctr">
            <a:spAutoFit/>
          </a:bodyPr>
          <a:p>
            <a:pPr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4. Диспансерное наблюдение за пациентами, больными ВИЧ-инфекцией с проявлениями туберкулез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4000)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Код по ОКЕИ: человек – 79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5701320" y="2274840"/>
            <a:ext cx="3472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онтроль с ф. 33, т. 2100,стр.13, гр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трелка влево 8"/>
          <p:cNvSpPr/>
          <p:nvPr/>
        </p:nvSpPr>
        <p:spPr>
          <a:xfrm>
            <a:off x="5429160" y="2325600"/>
            <a:ext cx="276480" cy="258840"/>
          </a:xfrm>
          <a:prstGeom prst="lef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5062680" y="2584440"/>
            <a:ext cx="882360" cy="628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онтроль с ф. 61,    т. 2000, стр. 21, 22, 41, гр.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0"/>
          <p:cNvSpPr/>
          <p:nvPr/>
        </p:nvSpPr>
        <p:spPr>
          <a:xfrm>
            <a:off x="6899400" y="2584440"/>
            <a:ext cx="857160" cy="628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онтроль с ф. 61, т. 2000,стр.21,22,41, гр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"/>
          <p:cNvSpPr/>
          <p:nvPr/>
        </p:nvSpPr>
        <p:spPr>
          <a:xfrm>
            <a:off x="284040" y="128520"/>
            <a:ext cx="8514000" cy="6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таблицу 4000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ают только тех пациентов, у которых туберкулез диагностирован как проявление болезни, вызванной ВИЧ, и 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не включают пациенто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которых туберкулез был выявлен 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до установления диагноз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и, вызванной ВИ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11:03:22Z</dcterms:created>
  <dc:creator>Волошина ЛИ; Центр СПИД Чита</dc:creator>
  <dc:description/>
  <dc:language>en-US</dc:language>
  <cp:lastModifiedBy>Миргород</cp:lastModifiedBy>
  <dcterms:modified xsi:type="dcterms:W3CDTF">2019-12-19T04:25:39Z</dcterms:modified>
  <cp:revision>210</cp:revision>
  <dc:subject/>
  <dc:title>МОДЕРНИЗАЦИЯ СИСТЕМЫ ОКАЗАНИЯ ПРОТИВОТУБЕРКУЛЕЗНОЙ ПОМОЩИ БОЛЬНЫМ ТУБЕРКУЛЕЗОМ ЛЕГКИХ В НОВЫХ ЭПИДЕМИОЛОГИЧЕСКИХ УСЛОВИЯХ</dc:title>
</cp:coreProperties>
</file>