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37B65-BA63-4152-B9EC-B95D3ACF729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F119A-9CE4-430E-9695-DBDB351132C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Дата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Номер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30C76-1E89-476C-8B0D-B8592490DF1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B021D-7657-4143-821C-E6CA77FE76F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AE33A-2329-401D-A481-936F539EB11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Дата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Номер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4BD4D-D551-4734-AC1E-7F397468A89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2808D-7A96-467B-ACB5-5CFD498FB4B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34DB5-3FF4-4290-AA18-78C09537022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DB112-1126-445D-AAF3-DE7A744729D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88145-9A5E-4F14-A8BC-18E8943885C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Дата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Номер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6F6EE-7AD3-476F-B0D2-689E42A340F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68A5-3270-4416-8900-FE49DA9DE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2C36-5098-43E9-B7DE-A410C2397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4FA3-7390-45E1-BF1A-1BDAABE74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5C30-DA4C-4DC0-9D9F-5F4CD1B59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CCB2-C270-4A67-A9C6-803ECE987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EFD7-1E78-4FBA-9D8D-541519FD2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E699-8DB4-45E5-87F5-47B033105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BCD3-BCDD-4813-80B6-DB3E42607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EE5E-EC71-4F6E-A211-C708CFCC0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D1FD-BD30-458C-9B8A-761CF9AE9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672A-04F1-4CCA-BD10-1EAE444AF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585F-62F9-4F7C-BACE-161891F8B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07065-C887-4488-B9DB-3841E03D29C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9" descr="C:\Users\Админ\Desktop\папка Рониса\Бизнес\Другие бизнес проекты\Диплом\Моё\ИАР_Шовдра О.Л\октябрь 2018\Презентация\Фон.png"/>
          <p:cNvPicPr/>
          <p:nvPr/>
        </p:nvPicPr>
        <p:blipFill>
          <a:blip r:embed="rId1"/>
          <a:stretch/>
        </p:blipFill>
        <p:spPr>
          <a:xfrm>
            <a:off x="-71280" y="-27000"/>
            <a:ext cx="9251640" cy="6885000"/>
          </a:xfrm>
          <a:prstGeom prst="rect">
            <a:avLst/>
          </a:prstGeom>
          <a:ln w="0">
            <a:noFill/>
          </a:ln>
        </p:spPr>
      </p:pic>
      <p:sp>
        <p:nvSpPr>
          <p:cNvPr id="49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220680" y="1641960"/>
            <a:ext cx="8666280" cy="25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4800" tIns="0" bIns="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ФОРМА ФЕДЕРАЛЬНОГО СТАТИСТИЧЕСКОГО НАБЛЮД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№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16-ВН «СВЕДЕНИЯ О ПРИЧИНАХ ВРЕМЕННОЙ НЕТРУДОСПОСОБНОСТ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9" descr="C:\Users\Админ\Desktop\папка Рониса\Бизнес\Другие бизнес проекты\Диплом\Моё\ИАР_Шовдра О.Л\октябрь 2018\Презентация\Фон.png"/>
          <p:cNvPicPr/>
          <p:nvPr/>
        </p:nvPicPr>
        <p:blipFill>
          <a:blip r:embed="rId1"/>
          <a:stretch/>
        </p:blipFill>
        <p:spPr>
          <a:xfrm>
            <a:off x="-30240" y="0"/>
            <a:ext cx="9252000" cy="6885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187280" y="960120"/>
            <a:ext cx="7110720" cy="126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чником сведений для заполнения формы 16-ВН является  «Книга регистрации листков нетрудоспособности» (Ф.№036/у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Заголовок 1"/>
          <p:cNvSpPr/>
          <p:nvPr/>
        </p:nvSpPr>
        <p:spPr>
          <a:xfrm>
            <a:off x="34920" y="-27000"/>
            <a:ext cx="88581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6 – В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верждена приказом Росстата № 723 от 25.12.2014 г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3"/>
          <p:cNvSpPr/>
          <p:nvPr/>
        </p:nvSpPr>
        <p:spPr>
          <a:xfrm>
            <a:off x="0" y="765000"/>
            <a:ext cx="9144000" cy="0"/>
          </a:xfrm>
          <a:prstGeom prst="line">
            <a:avLst/>
          </a:prstGeom>
          <a:ln w="381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3"/>
          <p:cNvSpPr/>
          <p:nvPr/>
        </p:nvSpPr>
        <p:spPr>
          <a:xfrm>
            <a:off x="-71280" y="766800"/>
            <a:ext cx="9251640" cy="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0" descr=""/>
          <p:cNvPicPr/>
          <p:nvPr/>
        </p:nvPicPr>
        <p:blipFill>
          <a:blip r:embed="rId2"/>
          <a:stretch/>
        </p:blipFill>
        <p:spPr>
          <a:xfrm>
            <a:off x="36360" y="981000"/>
            <a:ext cx="1152720" cy="12258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3"/>
          <p:cNvSpPr/>
          <p:nvPr/>
        </p:nvSpPr>
        <p:spPr>
          <a:xfrm>
            <a:off x="1197000" y="2479680"/>
            <a:ext cx="7110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случаев подсчитывается только по закрытым (по данному случаю) листкам нетрудоспособ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1201680" y="3935520"/>
            <a:ext cx="7134120" cy="13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форму 16-ВН включаются сведения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 числе дней временной нетрудоспособности (ВН) - графа 5 - по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,  по  причинам ВН,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 числе случаев ВН – в графу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1187280" y="5533920"/>
            <a:ext cx="711072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афах с 7 по 16 – число случаев ВН, распределенных по пятилетним  возрастным групп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0" descr=""/>
          <p:cNvPicPr/>
          <p:nvPr/>
        </p:nvPicPr>
        <p:blipFill>
          <a:blip r:embed="rId3"/>
          <a:stretch/>
        </p:blipFill>
        <p:spPr>
          <a:xfrm>
            <a:off x="49320" y="2494080"/>
            <a:ext cx="1150920" cy="12189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" descr=""/>
          <p:cNvPicPr/>
          <p:nvPr/>
        </p:nvPicPr>
        <p:blipFill>
          <a:blip r:embed="rId4"/>
          <a:stretch/>
        </p:blipFill>
        <p:spPr>
          <a:xfrm>
            <a:off x="42840" y="4005360"/>
            <a:ext cx="1152720" cy="12254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" descr=""/>
          <p:cNvPicPr/>
          <p:nvPr/>
        </p:nvPicPr>
        <p:blipFill>
          <a:blip r:embed="rId5"/>
          <a:stretch/>
        </p:blipFill>
        <p:spPr>
          <a:xfrm>
            <a:off x="49320" y="5535720"/>
            <a:ext cx="1150920" cy="122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9" descr="C:\Users\Админ\Desktop\папка Рониса\Бизнес\Другие бизнес проекты\Диплом\Моё\ИАР_Шовдра О.Л\октябрь 2018\Презентация\Фон.png"/>
          <p:cNvPicPr/>
          <p:nvPr/>
        </p:nvPicPr>
        <p:blipFill>
          <a:blip r:embed="rId1"/>
          <a:stretch/>
        </p:blipFill>
        <p:spPr>
          <a:xfrm>
            <a:off x="-6480" y="0"/>
            <a:ext cx="9252000" cy="6885000"/>
          </a:xfrm>
          <a:prstGeom prst="rect">
            <a:avLst/>
          </a:prstGeom>
          <a:ln w="0">
            <a:noFill/>
          </a:ln>
        </p:spPr>
      </p:pic>
      <p:sp>
        <p:nvSpPr>
          <p:cNvPr id="64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108000" y="633240"/>
          <a:ext cx="9036000" cy="4486320"/>
        </p:xfrm>
        <a:graphic>
          <a:graphicData uri="http://schemas.openxmlformats.org/drawingml/2006/table">
            <a:tbl>
              <a:tblPr/>
              <a:tblGrid>
                <a:gridCol w="718920"/>
                <a:gridCol w="649440"/>
                <a:gridCol w="431640"/>
                <a:gridCol w="459000"/>
                <a:gridCol w="909720"/>
                <a:gridCol w="863640"/>
                <a:gridCol w="502920"/>
                <a:gridCol w="433440"/>
                <a:gridCol w="574920"/>
                <a:gridCol w="433080"/>
                <a:gridCol w="432000"/>
                <a:gridCol w="503280"/>
                <a:gridCol w="576360"/>
                <a:gridCol w="504720"/>
                <a:gridCol w="477720"/>
                <a:gridCol w="565200"/>
              </a:tblGrid>
              <a:tr h="280080">
                <a:tc row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чина нетрудоспособ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ифр по МКБ X пере-смот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 стро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ней времен-ной нетрудо-способ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случаев времен-ной нетрудо-способ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0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по возрастам (лет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5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 - 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 - 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 - 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 - 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 - 3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 - 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 - 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 - 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 - 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 лет и старш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0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080">
                <a:tc rowSpan="2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которые инфек-цион-ные и паразитарные болезн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00 - B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9" descr="C:\Users\Админ\Desktop\папка Рониса\Бизнес\Другие бизнес проекты\Диплом\Моё\ИАР_Шовдра О.Л\октябрь 2018\Презентация\Фон.png"/>
          <p:cNvPicPr/>
          <p:nvPr/>
        </p:nvPicPr>
        <p:blipFill>
          <a:blip r:embed="rId1"/>
          <a:stretch/>
        </p:blipFill>
        <p:spPr>
          <a:xfrm>
            <a:off x="-54000" y="0"/>
            <a:ext cx="9252000" cy="6885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1187280" y="960120"/>
            <a:ext cx="7110720" cy="126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реднюю длительность ЛН по всем нозология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равнении с прошлым год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Заголовок 1"/>
          <p:cNvSpPr/>
          <p:nvPr/>
        </p:nvSpPr>
        <p:spPr>
          <a:xfrm>
            <a:off x="34920" y="189000"/>
            <a:ext cx="885816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ТИТЬ ВНИМАНИЕ ПРИ ЗАПОЛНЕ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3"/>
          <p:cNvSpPr/>
          <p:nvPr/>
        </p:nvSpPr>
        <p:spPr>
          <a:xfrm>
            <a:off x="0" y="765000"/>
            <a:ext cx="9144000" cy="0"/>
          </a:xfrm>
          <a:prstGeom prst="line">
            <a:avLst/>
          </a:prstGeom>
          <a:ln w="381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3"/>
          <p:cNvSpPr/>
          <p:nvPr/>
        </p:nvSpPr>
        <p:spPr>
          <a:xfrm>
            <a:off x="-71280" y="766800"/>
            <a:ext cx="9251640" cy="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0" descr=""/>
          <p:cNvPicPr/>
          <p:nvPr/>
        </p:nvPicPr>
        <p:blipFill>
          <a:blip r:embed="rId2"/>
          <a:stretch/>
        </p:blipFill>
        <p:spPr>
          <a:xfrm>
            <a:off x="36360" y="981000"/>
            <a:ext cx="1152720" cy="122580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3"/>
          <p:cNvSpPr/>
          <p:nvPr/>
        </p:nvSpPr>
        <p:spPr>
          <a:xfrm>
            <a:off x="1197000" y="2479680"/>
            <a:ext cx="7110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средняя длительность ВН изменилась более, чем на 10% по сравнению с предыдущим годом - объяснить причи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1197000" y="4006800"/>
            <a:ext cx="705492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Н по туберкулезу показывают только МО, оказывающ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зированную (противотуберкулезную) медицинскую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щ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1187280" y="5533920"/>
            <a:ext cx="711072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, обслуживающие детское население, заполняют строки 53-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Уход за больным» и ЛН, выданные работающим подросткам,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причинам В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0" descr=""/>
          <p:cNvPicPr/>
          <p:nvPr/>
        </p:nvPicPr>
        <p:blipFill>
          <a:blip r:embed="rId3"/>
          <a:stretch/>
        </p:blipFill>
        <p:spPr>
          <a:xfrm>
            <a:off x="49320" y="2494080"/>
            <a:ext cx="1150920" cy="12189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" descr=""/>
          <p:cNvPicPr/>
          <p:nvPr/>
        </p:nvPicPr>
        <p:blipFill>
          <a:blip r:embed="rId4"/>
          <a:stretch/>
        </p:blipFill>
        <p:spPr>
          <a:xfrm>
            <a:off x="42840" y="4005360"/>
            <a:ext cx="1152720" cy="12254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" descr=""/>
          <p:cNvPicPr/>
          <p:nvPr/>
        </p:nvPicPr>
        <p:blipFill>
          <a:blip r:embed="rId5"/>
          <a:stretch/>
        </p:blipFill>
        <p:spPr>
          <a:xfrm>
            <a:off x="49320" y="5535720"/>
            <a:ext cx="1150920" cy="122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9" descr="C:\Users\Админ\Desktop\папка Рониса\Бизнес\Другие бизнес проекты\Диплом\Моё\ИАР_Шовдра О.Л\октябрь 2018\Презентация\Фон.png"/>
          <p:cNvPicPr/>
          <p:nvPr/>
        </p:nvPicPr>
        <p:blipFill>
          <a:blip r:embed="rId1"/>
          <a:stretch/>
        </p:blipFill>
        <p:spPr>
          <a:xfrm>
            <a:off x="-71280" y="-27000"/>
            <a:ext cx="9251640" cy="6885000"/>
          </a:xfrm>
          <a:prstGeom prst="rect">
            <a:avLst/>
          </a:prstGeom>
          <a:ln w="0">
            <a:noFill/>
          </a:ln>
        </p:spPr>
      </p:pic>
      <p:sp>
        <p:nvSpPr>
          <p:cNvPr id="79" name="Заголовок 1"/>
          <p:cNvSpPr/>
          <p:nvPr/>
        </p:nvSpPr>
        <p:spPr>
          <a:xfrm>
            <a:off x="49320" y="187200"/>
            <a:ext cx="885816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РО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3"/>
          <p:cNvSpPr/>
          <p:nvPr/>
        </p:nvSpPr>
        <p:spPr>
          <a:xfrm>
            <a:off x="0" y="765000"/>
            <a:ext cx="9144000" cy="0"/>
          </a:xfrm>
          <a:prstGeom prst="line">
            <a:avLst/>
          </a:prstGeom>
          <a:ln w="381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3"/>
          <p:cNvSpPr/>
          <p:nvPr/>
        </p:nvSpPr>
        <p:spPr>
          <a:xfrm>
            <a:off x="-71280" y="766800"/>
            <a:ext cx="9251640" cy="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11160" y="836640"/>
          <a:ext cx="9094680" cy="3779640"/>
        </p:xfrm>
        <a:graphic>
          <a:graphicData uri="http://schemas.openxmlformats.org/drawingml/2006/table">
            <a:tbl>
              <a:tblPr/>
              <a:tblGrid>
                <a:gridCol w="1171440"/>
                <a:gridCol w="803520"/>
                <a:gridCol w="447480"/>
                <a:gridCol w="534960"/>
                <a:gridCol w="1068480"/>
                <a:gridCol w="1001520"/>
                <a:gridCol w="438480"/>
                <a:gridCol w="431640"/>
                <a:gridCol w="431640"/>
                <a:gridCol w="384480"/>
                <a:gridCol w="385560"/>
                <a:gridCol w="385920"/>
                <a:gridCol w="384120"/>
                <a:gridCol w="384120"/>
                <a:gridCol w="420840"/>
                <a:gridCol w="420480"/>
              </a:tblGrid>
              <a:tr h="321480">
                <a:tc rowSpan="2"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чина нетрудо-способ-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ифр по МКБ X пере-смот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 стро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ней времен-ной нетрудо-способ-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случаев времен-ной нетрудо-способ-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0"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по возрастам (лет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96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 - 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 - 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 - 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 - 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 - 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 - 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 - 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 - 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 - 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 лет и старш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14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8920"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еременность, роды и послеродо-вой пери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00 - O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" name="Rectangle 3"/>
          <p:cNvSpPr/>
          <p:nvPr/>
        </p:nvSpPr>
        <p:spPr>
          <a:xfrm>
            <a:off x="0" y="4797360"/>
            <a:ext cx="905832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4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─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ены все заболевания, являющиеся осложнением беременности, до декретного отпуска, а также осложнения после родов на протяжении всего послеродового периода. Также в этой строке указываются сведения о ВН по причине абортов (из строки 5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9" descr="C:\Users\Админ\Desktop\папка Рониса\Бизнес\Другие бизнес проекты\Диплом\Моё\ИАР_Шовдра О.Л\октябрь 2018\Презентация\Фон.png"/>
          <p:cNvPicPr/>
          <p:nvPr/>
        </p:nvPicPr>
        <p:blipFill>
          <a:blip r:embed="rId1"/>
          <a:stretch/>
        </p:blipFill>
        <p:spPr>
          <a:xfrm>
            <a:off x="-71280" y="-27000"/>
            <a:ext cx="9251640" cy="6885000"/>
          </a:xfrm>
          <a:prstGeom prst="rect">
            <a:avLst/>
          </a:prstGeom>
          <a:ln w="0">
            <a:noFill/>
          </a:ln>
        </p:spPr>
      </p:pic>
      <p:sp>
        <p:nvSpPr>
          <p:cNvPr id="85" name="Заголовок 1"/>
          <p:cNvSpPr/>
          <p:nvPr/>
        </p:nvSpPr>
        <p:spPr>
          <a:xfrm>
            <a:off x="49320" y="187200"/>
            <a:ext cx="885816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 СТРОК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3"/>
          <p:cNvSpPr/>
          <p:nvPr/>
        </p:nvSpPr>
        <p:spPr>
          <a:xfrm>
            <a:off x="0" y="765000"/>
            <a:ext cx="9144000" cy="0"/>
          </a:xfrm>
          <a:prstGeom prst="line">
            <a:avLst/>
          </a:prstGeom>
          <a:ln w="381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3"/>
          <p:cNvSpPr/>
          <p:nvPr/>
        </p:nvSpPr>
        <p:spPr>
          <a:xfrm>
            <a:off x="-71280" y="766800"/>
            <a:ext cx="9251640" cy="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49320" y="4797360"/>
            <a:ext cx="9094680" cy="13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>
              <a:lnSpc>
                <a:spcPct val="114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эти же строки включают случаи, связанные с протезированием, выполнением донорских функций, обследованием, в результате которого пациенту был поставлен диагноз «здоров» (ххı класс МКБ-Х «факторы, влияющие на состояние здоровья населения и обращения в медицинские организации ( с профилактическими и иными целями). Представить пояснительные запис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-36360" y="766800"/>
          <a:ext cx="9180360" cy="3957480"/>
        </p:xfrm>
        <a:graphic>
          <a:graphicData uri="http://schemas.openxmlformats.org/drawingml/2006/table">
            <a:tbl>
              <a:tblPr/>
              <a:tblGrid>
                <a:gridCol w="1117440"/>
                <a:gridCol w="746280"/>
                <a:gridCol w="500040"/>
                <a:gridCol w="993600"/>
                <a:gridCol w="995400"/>
                <a:gridCol w="903240"/>
                <a:gridCol w="425520"/>
                <a:gridCol w="415800"/>
                <a:gridCol w="416160"/>
                <a:gridCol w="334800"/>
                <a:gridCol w="335160"/>
                <a:gridCol w="333360"/>
                <a:gridCol w="415800"/>
                <a:gridCol w="417600"/>
                <a:gridCol w="414360"/>
                <a:gridCol w="415800"/>
              </a:tblGrid>
              <a:tr h="321480">
                <a:tc rowSpan="2"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чина нетрудо-способ-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ифр по МКБ X пере-смот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 стро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ней времен-ной нетрудо-способ-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случаев времен-ной нетрудо-способ-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0"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по возрастам (лет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96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 - 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 - 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 - 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 - 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 - 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 - 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 - 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 - 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 - 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 лет и старш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14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868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всем причина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6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9" descr="C:\Users\Админ\Desktop\папка Рониса\Бизнес\Другие бизнес проекты\Диплом\Моё\ИАР_Шовдра О.Л\октябрь 2018\Презентация\Фон.png"/>
          <p:cNvPicPr/>
          <p:nvPr/>
        </p:nvPicPr>
        <p:blipFill>
          <a:blip r:embed="rId1"/>
          <a:stretch/>
        </p:blipFill>
        <p:spPr>
          <a:xfrm>
            <a:off x="-71280" y="-27000"/>
            <a:ext cx="9251640" cy="6885000"/>
          </a:xfrm>
          <a:prstGeom prst="rect">
            <a:avLst/>
          </a:prstGeom>
          <a:ln w="0">
            <a:noFill/>
          </a:ln>
        </p:spPr>
      </p:pic>
      <p:sp>
        <p:nvSpPr>
          <p:cNvPr id="91" name="Заголовок 1"/>
          <p:cNvSpPr/>
          <p:nvPr/>
        </p:nvSpPr>
        <p:spPr>
          <a:xfrm>
            <a:off x="49320" y="187200"/>
            <a:ext cx="885816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 СТРО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3"/>
          <p:cNvSpPr/>
          <p:nvPr/>
        </p:nvSpPr>
        <p:spPr>
          <a:xfrm>
            <a:off x="0" y="765000"/>
            <a:ext cx="9144000" cy="0"/>
          </a:xfrm>
          <a:prstGeom prst="line">
            <a:avLst/>
          </a:prstGeom>
          <a:ln w="381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-71280" y="766800"/>
            <a:ext cx="9251640" cy="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0" y="836640"/>
          <a:ext cx="9105840" cy="3779640"/>
        </p:xfrm>
        <a:graphic>
          <a:graphicData uri="http://schemas.openxmlformats.org/drawingml/2006/table">
            <a:tbl>
              <a:tblPr/>
              <a:tblGrid>
                <a:gridCol w="1152360"/>
                <a:gridCol w="806760"/>
                <a:gridCol w="449280"/>
                <a:gridCol w="536400"/>
                <a:gridCol w="1073160"/>
                <a:gridCol w="1004760"/>
                <a:gridCol w="439920"/>
                <a:gridCol w="433440"/>
                <a:gridCol w="433440"/>
                <a:gridCol w="385560"/>
                <a:gridCol w="387360"/>
                <a:gridCol w="387360"/>
                <a:gridCol w="385920"/>
                <a:gridCol w="385560"/>
                <a:gridCol w="422280"/>
                <a:gridCol w="422280"/>
              </a:tblGrid>
              <a:tr h="321480">
                <a:tc rowSpan="2"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чина нетрудо-способ-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ифр по МКБ X пере-смот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 стро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ней времен-ной нетрудо-способ-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случаев времен-ной нетрудо-способ-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0"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по возрастам (лет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96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 - 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 - 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 - 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 - 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 - 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 - 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 - 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 - 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 - 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 лет и старш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14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8920"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пуск по беремен-ности и рода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5" name="Rectangle 3"/>
          <p:cNvSpPr/>
          <p:nvPr/>
        </p:nvSpPr>
        <p:spPr>
          <a:xfrm>
            <a:off x="-27000" y="4797360"/>
            <a:ext cx="9058320" cy="12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─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есть рожавшие в возрасте 50-54 и 55-59 лет, то обязательно должны быть предоставлены документы, подтверждающие факт родов (№ больничного листа, выписка из родильного дома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─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этой строке не должны указывать отпуск по уходу за малолетними деть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9" descr="C:\Users\Админ\Desktop\папка Рониса\Бизнес\Другие бизнес проекты\Диплом\Моё\ИАР_Шовдра О.Л\октябрь 2018\Презентация\Фон.png"/>
          <p:cNvPicPr/>
          <p:nvPr/>
        </p:nvPicPr>
        <p:blipFill>
          <a:blip r:embed="rId1"/>
          <a:stretch/>
        </p:blipFill>
        <p:spPr>
          <a:xfrm>
            <a:off x="-147600" y="-316080"/>
            <a:ext cx="9252000" cy="6885000"/>
          </a:xfrm>
          <a:prstGeom prst="rect">
            <a:avLst/>
          </a:prstGeom>
          <a:ln w="0">
            <a:noFill/>
          </a:ln>
        </p:spPr>
      </p:pic>
      <p:sp>
        <p:nvSpPr>
          <p:cNvPr id="97" name="Заголовок 1"/>
          <p:cNvSpPr/>
          <p:nvPr/>
        </p:nvSpPr>
        <p:spPr>
          <a:xfrm>
            <a:off x="49320" y="187200"/>
            <a:ext cx="885816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rebuchet MS"/>
                <a:ea typeface="Arial"/>
              </a:rPr>
              <a:t>Таблица 2610 в Ф 3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3"/>
          <p:cNvSpPr/>
          <p:nvPr/>
        </p:nvSpPr>
        <p:spPr>
          <a:xfrm>
            <a:off x="0" y="765000"/>
            <a:ext cx="9144000" cy="0"/>
          </a:xfrm>
          <a:prstGeom prst="line">
            <a:avLst/>
          </a:prstGeom>
          <a:ln w="381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3"/>
          <p:cNvSpPr/>
          <p:nvPr/>
        </p:nvSpPr>
        <p:spPr>
          <a:xfrm>
            <a:off x="-71280" y="766800"/>
            <a:ext cx="9251640" cy="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1"/>
          <p:cNvSpPr/>
          <p:nvPr/>
        </p:nvSpPr>
        <p:spPr>
          <a:xfrm>
            <a:off x="1042920" y="2967120"/>
            <a:ext cx="7777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Формируется на основании данных медицинских организаций. Отражается количество инвалидов, которые состоят на уче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9" descr="C:\Users\Админ\Desktop\папка Рониса\Бизнес\Другие бизнес проекты\Диплом\Моё\ИАР_Шовдра О.Л\октябрь 2018\Презентация\Фон.png"/>
          <p:cNvPicPr/>
          <p:nvPr/>
        </p:nvPicPr>
        <p:blipFill>
          <a:blip r:embed="rId1"/>
          <a:stretch/>
        </p:blipFill>
        <p:spPr>
          <a:xfrm>
            <a:off x="-74520" y="-36360"/>
            <a:ext cx="9252000" cy="6885000"/>
          </a:xfrm>
          <a:prstGeom prst="rect">
            <a:avLst/>
          </a:prstGeom>
          <a:ln w="0">
            <a:noFill/>
          </a:ln>
        </p:spPr>
      </p:pic>
      <p:sp>
        <p:nvSpPr>
          <p:cNvPr id="102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Заголовок 1"/>
          <p:cNvSpPr/>
          <p:nvPr/>
        </p:nvSpPr>
        <p:spPr>
          <a:xfrm>
            <a:off x="1835280" y="1471680"/>
            <a:ext cx="5317920" cy="19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2060"/>
                </a:solidFill>
                <a:latin typeface="Arial Black"/>
                <a:ea typeface="Arial"/>
              </a:rPr>
              <a:t>Спасибо</a:t>
            </a:r>
            <a:r>
              <a:rPr b="0" lang="en-US" sz="5400" spc="-1" strike="noStrike">
                <a:solidFill>
                  <a:srgbClr val="002060"/>
                </a:solidFill>
                <a:latin typeface="Arial Black"/>
                <a:ea typeface="Arial"/>
              </a:rPr>
              <a:t> </a:t>
            </a:r>
            <a:r>
              <a:rPr b="0" lang="ru-RU" sz="5400" spc="-1" strike="noStrike">
                <a:solidFill>
                  <a:srgbClr val="002060"/>
                </a:solidFill>
                <a:latin typeface="Arial Black"/>
                <a:ea typeface="Arial"/>
              </a:rPr>
              <a:t>за внимание</a:t>
            </a:r>
            <a:r>
              <a:rPr b="0" lang="en-US" sz="5400" spc="-1" strike="noStrike">
                <a:solidFill>
                  <a:srgbClr val="002060"/>
                </a:solidFill>
                <a:latin typeface="Arial Black"/>
                <a:ea typeface="Arial"/>
              </a:rPr>
              <a:t>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Заголовок 1"/>
          <p:cNvSpPr/>
          <p:nvPr/>
        </p:nvSpPr>
        <p:spPr>
          <a:xfrm>
            <a:off x="179280" y="4797360"/>
            <a:ext cx="79218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Шовдра Ольга Леонидовн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E-mail: olgashovdra@rambler.r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ел. 8(914) 439-07-07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02T10:10:09Z</dcterms:created>
  <dc:creator>Светлана</dc:creator>
  <dc:description/>
  <dc:language>en-US</dc:language>
  <cp:lastModifiedBy>Елена Александровна Бронникова</cp:lastModifiedBy>
  <dcterms:modified xsi:type="dcterms:W3CDTF">2019-12-20T01:12:39Z</dcterms:modified>
  <cp:revision>403</cp:revision>
  <dc:subject/>
  <dc:title>Слайд 1</dc:title>
</cp:coreProperties>
</file>