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70BE-1B91-4993-A417-8341C43A1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772C-6016-4374-BA59-4435C36E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07C0-2503-4949-ADD5-A1619BAC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23BC-133A-4748-889A-C3E3A6D0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4483-AEE0-47D8-A371-A86D1010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BEB8-7782-43A3-8649-D3FB320B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ACC5-E608-4319-B2A2-59F615E3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ACF7-A4DA-4E3E-B92B-C80F1F3D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3A72-AE94-4CFF-82C6-0734B51D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D07B-686C-40D4-9816-3817D963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503A-2B17-4268-AD3B-B6D60F8C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300F-4AE8-456F-A08E-C6D337B6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55BA-5D8D-45C9-A32C-AC743B8B11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chitokvd@mail.ru" TargetMode="External"/><Relationship Id="rId2" Type="http://schemas.openxmlformats.org/officeDocument/2006/relationships/hyperlink" Target="mailto:chitokvd@mail.ru" TargetMode="External"/><Relationship Id="rId3" Type="http://schemas.openxmlformats.org/officeDocument/2006/relationships/hyperlink" Target="mailto:chitokvd@mail.ru" TargetMode="External"/><Relationship Id="rId4" Type="http://schemas.openxmlformats.org/officeDocument/2006/relationships/hyperlink" Target="mailto:chitokvd@mail.ru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1547640" y="907920"/>
            <a:ext cx="669636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  <a:ea typeface="Calibri"/>
              </a:rPr>
              <a:t>Формы федерального статистического наблюдения по профилю «Дерматовенерология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908000" y="4508640"/>
            <a:ext cx="5112000" cy="136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www.medicinadurgenza.org/sites/default/files/education.jpg"/>
          <p:cNvPicPr/>
          <p:nvPr/>
        </p:nvPicPr>
        <p:blipFill>
          <a:blip r:embed="rId2"/>
          <a:srcRect l="4358" t="0" r="0" b="0"/>
          <a:stretch/>
        </p:blipFill>
        <p:spPr>
          <a:xfrm>
            <a:off x="7093080" y="4075200"/>
            <a:ext cx="1711080" cy="266364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3780000" y="623736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2019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хема 4" descr=""/>
          <p:cNvPicPr/>
          <p:nvPr/>
        </p:nvPicPr>
        <p:blipFill>
          <a:blip r:embed="rId1"/>
          <a:stretch/>
        </p:blipFill>
        <p:spPr>
          <a:xfrm>
            <a:off x="1816200" y="1816200"/>
            <a:ext cx="7108560" cy="4108320"/>
          </a:xfrm>
          <a:prstGeom prst="rect">
            <a:avLst/>
          </a:prstGeom>
          <a:ln w="0">
            <a:noFill/>
          </a:ln>
        </p:spPr>
      </p:pic>
      <p:sp>
        <p:nvSpPr>
          <p:cNvPr id="46" name="Скругленный прямоугольник 6"/>
          <p:cNvSpPr/>
          <p:nvPr/>
        </p:nvSpPr>
        <p:spPr>
          <a:xfrm>
            <a:off x="1258920" y="189000"/>
            <a:ext cx="7634160" cy="1511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 u="sng">
                <a:solidFill>
                  <a:srgbClr val="02376f"/>
                </a:solidFill>
                <a:uFillTx/>
                <a:latin typeface="Verdana"/>
                <a:ea typeface="Times New Roman"/>
              </a:rPr>
              <a:t>ПРИКАЗ РОССТАТА ОТ  29.12.2011 Г. №520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2376f"/>
                </a:solidFill>
                <a:latin typeface="Verdana"/>
                <a:ea typeface="Times New Roman"/>
              </a:rPr>
              <a:t>«Об утверждении статистического инструментария для организации Минздравсоцразвития России федерального статистического наблюдения за деятельностью учреждений системы здравоохранения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3"/>
          <p:cNvSpPr/>
          <p:nvPr/>
        </p:nvSpPr>
        <p:spPr>
          <a:xfrm>
            <a:off x="1187280" y="115920"/>
            <a:ext cx="756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УЧЕТНАЯ ФОРМА № 089/У-К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Calibri"/>
              </a:rPr>
              <a:t>«Извещение о больном с вновь установленным диагнозом сифилиса, гонореи, трихомоноза, хламидиоза, герпеса урогенитального, аногенитальными бородавками, микроспории, фавуса, трихофитии, микоза стоп, чесотк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4" descr=""/>
          <p:cNvPicPr/>
          <p:nvPr/>
        </p:nvPicPr>
        <p:blipFill>
          <a:blip r:embed="rId1"/>
          <a:srcRect l="9136" t="16025" r="49214" b="7181"/>
          <a:stretch/>
        </p:blipFill>
        <p:spPr>
          <a:xfrm>
            <a:off x="5435640" y="1700280"/>
            <a:ext cx="3384360" cy="4680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>
            <a:off x="1042920" y="1630440"/>
            <a:ext cx="4572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Является основным статистическим учетным документом, на основании которого ГУЗ «ККВД» собирает информацию о пациентах для формирования отчетных форм федерального статистического наблюдения №9 и №34 по Забайкальскому краю, представляемых в МЗ ЗК и МЗРФ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Является основанием для передачи информации соответствующим органам Роспотребнадзора для проведения при необходимости комплекса противоэпидемических мероприят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иагноз больного указывается строго в соответствии с МКБ-1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случае изменения диагноза при уточнении клинической формы сифилиса заполняется новое извещение под тем же номером, что и предыдуще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971640" y="189000"/>
            <a:ext cx="754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Calibri"/>
              </a:rPr>
              <a:t>Основные ошибки: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.N 34 "Сведения о больных заболеваниями, передаваемыми преимущественно половым путем, грибковыми кожными болезнями и чесоткой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1479600" y="1341360"/>
            <a:ext cx="74264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БЛИЦА  № 2100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ОНТИНГЕНТЫ БОЛЬНЫХ ДАННОГО УЧРЕЖД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ГРАФА 10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ьшое количество больных сифилисом состоящих на конец отчетного года, что свидетельствует о недостаточной патронажной работ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правильно предоставлены сведения по количеству прошлогодних остатков по ряду ИППП и заразным кожным болезня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ТРОКА 27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 общего числа больных, наблюдавшихся в КАО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мечается наличие значений в район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3"/>
          <p:cNvSpPr/>
          <p:nvPr/>
        </p:nvSpPr>
        <p:spPr>
          <a:xfrm>
            <a:off x="971640" y="189000"/>
            <a:ext cx="754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Calibri"/>
              </a:rPr>
              <a:t>Основные ошибки: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.N 34 "Сведения о больных заболеваниями, передаваемыми преимущественно половым путем, грибковыми кожными болезнями и чесоткой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1403280" y="1112760"/>
            <a:ext cx="7426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БЛИЦА  № 2200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явлено больных ИППП и заразными кожными болезня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соответствие значений суммы граф 7 и 4  (обратились самостоятельно по контакту) значениям графы 5 таблицы N 2300 "Выявлено больных всего среди контактов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ьшая разница между значенями граф выявлено всего в КВУ (6 графа) и среди контактов (7 граф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БЛИЦА № 240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формация о числе родившихся детей, получивших профилактическое и специфическое леч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96960" y="4508640"/>
            <a:ext cx="785160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042920" y="1125360"/>
          <a:ext cx="7491600" cy="5656320"/>
        </p:xfrm>
        <a:graphic>
          <a:graphicData uri="http://schemas.openxmlformats.org/drawingml/2006/table">
            <a:tbl>
              <a:tblPr/>
              <a:tblGrid>
                <a:gridCol w="1328760"/>
                <a:gridCol w="255600"/>
                <a:gridCol w="376200"/>
                <a:gridCol w="374760"/>
                <a:gridCol w="374760"/>
                <a:gridCol w="376200"/>
                <a:gridCol w="376200"/>
                <a:gridCol w="374400"/>
                <a:gridCol w="374760"/>
                <a:gridCol w="466920"/>
                <a:gridCol w="527040"/>
                <a:gridCol w="349200"/>
                <a:gridCol w="557280"/>
                <a:gridCol w="452160"/>
                <a:gridCol w="443160"/>
                <a:gridCol w="484200"/>
              </a:tblGrid>
              <a:tr h="219240"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нозологи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логические метод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пи-ческ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П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-логи-ческий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оло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ческ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еку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ярно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-ческ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С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МП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П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ПГ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Ф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Ф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Б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-нобло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фили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????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нококковая инфекц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амидийные инфекци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хомоноз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огенитальная герпетическа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ая инфекц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огенитальные (вен.) бородав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пор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хофит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озы кистей и стоп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сотк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Rectangle 2"/>
          <p:cNvSpPr/>
          <p:nvPr/>
        </p:nvSpPr>
        <p:spPr>
          <a:xfrm>
            <a:off x="1001880" y="301680"/>
            <a:ext cx="79149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БЛИЦА  № 250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тоды лабораторной диагностики, применяемые для постановки диагноз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вал 7"/>
          <p:cNvSpPr/>
          <p:nvPr/>
        </p:nvSpPr>
        <p:spPr>
          <a:xfrm>
            <a:off x="6659640" y="1192320"/>
            <a:ext cx="452520" cy="8650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вал 8"/>
          <p:cNvSpPr/>
          <p:nvPr/>
        </p:nvSpPr>
        <p:spPr>
          <a:xfrm>
            <a:off x="7169040" y="1192320"/>
            <a:ext cx="451080" cy="90144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вал 6"/>
          <p:cNvSpPr/>
          <p:nvPr/>
        </p:nvSpPr>
        <p:spPr>
          <a:xfrm>
            <a:off x="2960640" y="1378080"/>
            <a:ext cx="452520" cy="69372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Овал 9"/>
          <p:cNvSpPr/>
          <p:nvPr/>
        </p:nvSpPr>
        <p:spPr>
          <a:xfrm>
            <a:off x="3676680" y="1378080"/>
            <a:ext cx="452520" cy="78876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Овал 10"/>
          <p:cNvSpPr/>
          <p:nvPr/>
        </p:nvSpPr>
        <p:spPr>
          <a:xfrm>
            <a:off x="4094280" y="1378080"/>
            <a:ext cx="360360" cy="78876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Овал 11"/>
          <p:cNvSpPr/>
          <p:nvPr/>
        </p:nvSpPr>
        <p:spPr>
          <a:xfrm>
            <a:off x="5724360" y="1177920"/>
            <a:ext cx="452520" cy="9018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11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Отчетные формы представляются в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-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м экземпляре, кроме этог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Акты расследования и анкеты на врожденный и детский сифилис 0-14 лет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tokvd@mail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(3022)31-42-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914358337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3"/>
          <p:cNvSpPr/>
          <p:nvPr/>
        </p:nvSpPr>
        <p:spPr>
          <a:xfrm>
            <a:off x="1981080" y="907920"/>
            <a:ext cx="6156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лагодарю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 внимание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 baranova</cp:lastModifiedBy>
  <dcterms:modified xsi:type="dcterms:W3CDTF">2019-12-18T03:38:37Z</dcterms:modified>
  <cp:revision>28</cp:revision>
  <dc:subject/>
  <dc:title>Шаблон презентации</dc:title>
</cp:coreProperties>
</file>