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6FB-01F3-47C4-A6FF-530CBAD7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052-B6D8-4493-91DF-AB8AF431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0FA9-B752-4E60-B9B6-5F7216CD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AA9-7C18-466C-AD76-409B4382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A4E8-1B3F-48AC-A1BD-58683EDB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EBBA-E6B4-46BE-AEB0-DAABCC3B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D986-0FB0-4130-9A32-B5CA1D29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67AF-7AA9-406A-AAF3-16CFE6E8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9DB7-E729-484F-A92B-0A55598A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4AAB-E888-4620-8924-05BDE572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B59D-F11A-4E89-8319-96EAE654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F740-914F-4D46-8319-D1F6442E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7AB2-4FB2-47CA-890A-B2D18035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D8DC-A357-49D6-B1FF-01A3E0EB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50AC-AA23-46A6-BBC9-3A09927A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AAF2-AAAF-414B-832C-9682FF04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A61B-62F3-437D-9214-B49A7EBA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A3941-B327-4018-8DB9-1F8C5CAE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A1F28-42A1-4626-B185-4D6A4E74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83A90-7769-40C1-8CFE-D8882F27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42A13-3025-4604-A66A-334E26B5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747D5-A161-44B0-812D-DFB071B9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0CD-B466-46F0-8EC2-A8466716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E0989-308F-4F0E-B599-EF224AA1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CB8EA-EC8A-4EF5-B400-1A7C6D0B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DBB11-DE3F-43A8-AB47-9FD579DF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6658E-0A4D-4F72-922F-931F63DE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6DEA1-4D52-459E-A4A4-77D6881B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22C7B-8A3A-420A-9ADC-C7F93158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AA68C-4609-4CA7-B06B-04457936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78DDA-C2F7-4DED-BC18-D6A375C0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36CD3-781B-4A0B-B037-A0440E5D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F736D-8328-438B-A850-C4A14056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05A-339E-4AC9-9B9C-A71E5405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24C59-FFF9-4C4D-9B12-8FBCC04B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0230B-AA01-4443-BB95-BC7BAA7B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26230-EE8E-40DC-9C58-E4568BC1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1BC0E-DC0F-40BD-8285-A5DF0624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273F0-7698-4B08-86FA-21325BEA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AC2B4-B436-4302-817E-B609788F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2B963-4785-4CE2-8E1B-688E3B51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E8256-CA0E-4611-9C6A-40727A6A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0961B-C493-47CE-8BA1-7136C3AB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0574-D8A8-4C86-9D64-D01F9510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2E5-C2EF-4821-8493-51784C52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07C-C7D5-4141-8864-DFDC3C73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CB5D-E66A-44FD-B0CD-32CE131E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B5A-DC78-43AF-A30C-622BFC45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4782-659E-411B-9E4F-374A234E77B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7757-6BF8-4CEC-9317-C3FB48AF3A6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CE19-DDB4-40C0-AB17-C8BC3D6797B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4D1B-B524-4CBE-8CCC-9CB8953BC2D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682560" y="2432160"/>
            <a:ext cx="8070840" cy="3949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15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Constantia"/>
              </a:rPr>
              <a:t>Брендирование автомобилей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еализация мероприятий по приобретению медицинского автомобильного транспорта в 2021-2022г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2" descr="C:\Users\Главная медсестра\Desktop\авто у приемного — копия.jpg"/>
          <p:cNvPicPr/>
          <p:nvPr/>
        </p:nvPicPr>
        <p:blipFill>
          <a:blip r:embed="rId1"/>
          <a:stretch/>
        </p:blipFill>
        <p:spPr>
          <a:xfrm>
            <a:off x="457200" y="2627280"/>
            <a:ext cx="4038480" cy="3021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C:\Users\Главная медсестра\Desktop\авто у гаража.jpg"/>
          <p:cNvPicPr/>
          <p:nvPr/>
        </p:nvPicPr>
        <p:blipFill>
          <a:blip r:embed="rId2"/>
          <a:stretch/>
        </p:blipFill>
        <p:spPr>
          <a:xfrm>
            <a:off x="4648320" y="2627280"/>
            <a:ext cx="40384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воорловская участковая больниц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ездов за 2021 год – 16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ездов за 2022 год - 14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C:\Users\Главная медсестра\Desktop\нуб нива.jpg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xuJLec</dc:creator>
  <dc:description/>
  <dc:language>en-US</dc:language>
  <cp:lastModifiedBy>Главная медсестра</cp:lastModifiedBy>
  <dcterms:modified xsi:type="dcterms:W3CDTF">2022-11-11T09:06:49Z</dcterms:modified>
  <cp:revision>1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