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03558-98E1-4352-91BB-CCEE464032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84A37-E615-4FCB-BCB0-00B4FCC181F9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AA50C-2296-46D8-BE45-60FA347EA420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EDCC1-C366-47A7-9E7D-54BD00CF81E5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84B7D-092A-49A4-972D-E76C20D1341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752B5-EAC7-47BD-9B6C-83BD09517A45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57506-39FB-4A8C-BAB7-7E9A9C0C4550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AEFE3-65E7-4BD8-ACA8-EBDFA6724CD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F4B82-05D9-4030-BD28-5D8F260D540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039BE-89A5-405D-8A73-DE018656BC5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FBE34-48B0-4B75-9D11-7DF9BA07D7F7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DAA8C-27D7-485F-ADD1-61170F067F6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803F8-8C17-4619-AB37-F49E222503CE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В таблице отражаются сведения о прерывании беременности в срок до 12 недель. В графе 4 показывается общее число прерываний беременности в срок до 12 недель, в графах 5-9 – распределение по возрастам. Графа 4 равна сумме граф 5,6,7,8,9. Из граф 4 выделяются: прерывания беременности у первобеременных (графа 10), у ВИЧ – инфицированных (графа 1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По срокам 2-6 отражаются: другие аномальные продукты зачатия (строка 2), самопроизвольный аборт (строка 3), медицинский аборт (строка 4), другие виды аборты (криминальный) (строка 5), аборт неуточненный (внебольничный) (строка 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Строка 1 равна сумме срок 2-6 по всем граф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Кроме того, в строках 7-9 отражаются: внематочная беременность (строка 7), пузырный занос (строка 8), неудачная попытка аборта (строка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3D084-BD30-4806-80C6-B2F05BE5F5A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CA01-2400-4461-8748-3613F466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3115-C20A-43D8-9FCE-B4732A10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AFFE-5C69-464C-98F5-331039E1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93B-492F-4086-B92A-48775D02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C4A7-8DAA-4D48-BFCB-A369FD6F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C188-5247-4258-85F0-6D2A4100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ECAA-544C-4F32-9BC4-88237F08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3DE3-3CC0-4B59-B9CE-CFB37D51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11FD-E1C4-4963-ABBC-B6CFA72C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58E2-8D63-49D0-B182-EE70082E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0F5F-DD3C-4C0A-A856-56CF38FE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ACFB-398F-48EC-8714-BCF665FA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80F3-5ADD-441F-816B-E0489EA4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B9FA-B89F-4264-B8BD-A1050205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7B2C-B5FA-46E8-9E8B-DEAB7A15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FCCB-F123-4B7C-865F-1188C327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F942-D299-48CE-9F42-56374A52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F89AD-714B-4C90-9F63-FB774A7B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6EBA3-BE4C-49CE-A9E2-699E42B2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9660F-866A-4A4C-AEEA-0C7B6CC6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24C9F-B67C-432A-A0C9-3D2A1282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3C7BC-1556-43EB-8809-7F2D5846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E5F-6C09-4107-B729-7158642F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BC1A9-29E9-45EC-8A96-2DB78943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31AF9-A1A3-4C11-8A15-2C8D7337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6E044-9097-4256-A962-873BBB32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4E835-E403-4C45-95BA-C1D4E613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07813-544C-4826-80B4-BCD28815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4EE5E-B21B-40A2-9448-4F16B626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EFD82-34A3-4295-BEFD-21911EE5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A81EF-00F5-4933-ACDD-AF16E3E4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113C2-5C54-4A30-B7F5-AC0FAEDF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83795-CC08-42D1-8503-4CBAC8A3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35A3-7C87-475C-8EBF-2CBD501A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4CA5B-E1EF-4E0F-AFAF-03104D96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E0AA3-837A-4073-B0A2-C0D086DC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FD72F-E144-4B5E-9C4A-9CE8A96F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B3332-8A12-4892-82F8-1EAA7502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7107E-232B-42E9-8909-9CD5344A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99E61-A409-4D42-8BEE-0A849B48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65042-7C3F-4195-B0AE-A0285C08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BA5C8-D3DD-4EE7-BB93-66FAEB51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16C2D-BB3A-4C8A-83DF-9F4340E4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CD0-6113-4ABD-B113-DCB3CDC6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543-1EF9-4C4F-AFDE-AD6E0BC3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05B-CB5D-469D-86A9-BE97807B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9A8-263C-4780-BAB8-93110BA4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F83-B74B-407F-B570-2E6CCB27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2864F-4DB5-4237-B3D7-6EABC69B1BA9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762120"/>
            <a:ext cx="91425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271080" y="762120"/>
            <a:ext cx="2923920" cy="533376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24109-1AA8-42AA-8AD0-A97707DB5278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09525-9A66-41BC-BDDB-A31049FC5DA5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49884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CDB0E-BEA2-43ED-AD4D-532774F7903C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9920" y="1850760"/>
            <a:ext cx="73152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300"/>
            </a:br>
            <a:br>
              <a:rPr sz="5300"/>
            </a:b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Форма № 13</a:t>
            </a: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5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613320" y="3825360"/>
            <a:ext cx="8456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Т.К. Гребенник </a:t>
            </a:r>
            <a:endParaRPr b="0" lang="en-US" sz="26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t_grebennik@oparina4.ru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Заведующий организационно-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методическим отделом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ФГБУ «НМИЦ АГП им. В.И. Кулакова» МЗ РФ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9" name="Footer Placeholder 17"/>
          <p:cNvSpPr/>
          <p:nvPr/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1a616f"/>
                </a:solidFill>
                <a:latin typeface="Corbel"/>
              </a:rPr>
              <a:t>12 декабря, 2018 г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2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22240" y="777960"/>
            <a:ext cx="81615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анормальные продукты зачатия (О02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385800" y="2923920"/>
            <a:ext cx="7907400" cy="30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данную рубрику входят диагнозы «анэмбриония», «неразвивающаяся беременность»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бумажный плод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необходимости идентифицировать любое связанное с другими анормальными продуктами зачатия (О02) осложнение используют дополнительный код рубрики (О08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747960" y="293760"/>
            <a:ext cx="78789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амопроизвольный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аборт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(О03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22600" y="1581120"/>
            <a:ext cx="7770960" cy="51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аборт произошел в стационаре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амопроизвольно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т.е. в следующих случаях: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находилась в стационаре. Аборт самопроизвольно начался и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поступила с диагнозом «начавшийся выкидыш», терапия, направленная на сохранение беременности, не проводилась или была неэффективна, самопроизвольный аборт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пациентка поступила с диагнозом «аборт в ходу», аборт произошел в условиях стационара.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сли пациентка поступила в стационар после совершившегося самопроизвольного выкидыша вне стационара, случай необходимо указывать в строке 6 (аборт неуточненный)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4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617640" y="419040"/>
            <a:ext cx="798660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Медицинский аборт (О04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421080" y="576360"/>
            <a:ext cx="8578800" cy="59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в стационаре произошло прерывание развивающейся беременности по желанию женщины (Таб. 1000) или по медицинским показаниям, независимо от метода прерывания беременности (инструментальный, консервативный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сроке беременности более 12 недель прерывание беременности по желанию женщины не проводится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дицинские аборты, проведенные по медицинским показаниям, в том числе медикаментозным методом, показываются в таблице 1101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5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67120" y="867960"/>
            <a:ext cx="77248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виды аборта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5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498840" y="2064960"/>
            <a:ext cx="7794720" cy="39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криминального аборта, независимо от того, на какой его стадии пациентка поступила в стационар (любой аборт, проведенный вне медицинских организаций любой формы собственности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66760" y="732960"/>
            <a:ext cx="76820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борт неуточненный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634920" y="1839600"/>
            <a:ext cx="765828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внебольничного аборта, т.е. при поступлении пациентки после свершившегося вне какой-либо медицинской организации («на дому») самопроизвольного аборта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66760" y="755280"/>
            <a:ext cx="7426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нематочная беременность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758760" y="1952640"/>
            <a:ext cx="7534440" cy="40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0.0, О00.1, О00.2, О00.8, О00.9 (см. МКБ-10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 необходимости идентифицировать любое связанное с внематочной беременностью (О00) осложнение используют дополнительный код рубрики О08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66760" y="868320"/>
            <a:ext cx="763596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узырный занос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1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90720" y="2162160"/>
            <a:ext cx="7677000" cy="378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1.0, О01.1, О01.9. (см. МКБ-10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злокачественный пузырный занос (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9.2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634920" y="2155680"/>
            <a:ext cx="7658280" cy="38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Данный код используется в случае поступления в медицинскую организацию пациенток с продолжающейся беременностью после проведения попытки аборта в любой медицинской организации.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8" name="Объект 2"/>
          <p:cNvSpPr/>
          <p:nvPr/>
        </p:nvSpPr>
        <p:spPr>
          <a:xfrm>
            <a:off x="4064040" y="1020600"/>
            <a:ext cx="72295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Неудачная попытка аборта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7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105;2105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14840" y="2607840"/>
            <a:ext cx="7578720" cy="33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У любой пациентки в рамках одной госпитализации может иметь место несколько осложнений беременности с абортивным исходом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1" name="Объект 2"/>
          <p:cNvSpPr/>
          <p:nvPr/>
        </p:nvSpPr>
        <p:spPr>
          <a:xfrm>
            <a:off x="4064040" y="1020600"/>
            <a:ext cx="76201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сложнения, вызванные абортом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8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3000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758760" y="2760840"/>
            <a:ext cx="7613640" cy="39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графе 1 указывается число женщин, умерших от прерывания беременност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2 – в сроки до 12 недель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3 – в сроки 12-22 недели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исло в графе 1 должно равняться сумме граф 2 и 3 этой таблицы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4" name="Объект 2"/>
          <p:cNvSpPr/>
          <p:nvPr/>
        </p:nvSpPr>
        <p:spPr>
          <a:xfrm>
            <a:off x="4064040" y="496800"/>
            <a:ext cx="74613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Число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ЭКОНОМИЧЕСКОГО РАЗВИТИЯ РОССИЙСКОЙ ФЕДЕРАЦИ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СЛУЖБА ГОСУДАРСТВЕННОЙ СТАТИСТИК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2 декабря 2017 г. № 861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ЗДРАВООХРАНЕНИЯ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4 = ф13т1100г1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1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37" name="Объект 2" descr=""/>
          <p:cNvPicPr/>
          <p:nvPr/>
        </p:nvPicPr>
        <p:blipFill>
          <a:blip r:embed="rId1"/>
          <a:stretch/>
        </p:blipFill>
        <p:spPr>
          <a:xfrm>
            <a:off x="3565440" y="90180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10"/>
          <p:cNvSpPr/>
          <p:nvPr/>
        </p:nvSpPr>
        <p:spPr>
          <a:xfrm>
            <a:off x="6861240" y="243828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Овал 13"/>
          <p:cNvSpPr/>
          <p:nvPr/>
        </p:nvSpPr>
        <p:spPr>
          <a:xfrm>
            <a:off x="6491160" y="388296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Овал 15"/>
          <p:cNvSpPr/>
          <p:nvPr/>
        </p:nvSpPr>
        <p:spPr>
          <a:xfrm flipH="1">
            <a:off x="7891560" y="426708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5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3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3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44" name="Овал 10"/>
          <p:cNvSpPr/>
          <p:nvPr/>
        </p:nvSpPr>
        <p:spPr>
          <a:xfrm>
            <a:off x="7427880" y="2449440"/>
            <a:ext cx="755640" cy="27000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Овал 13"/>
          <p:cNvSpPr/>
          <p:nvPr/>
        </p:nvSpPr>
        <p:spPr>
          <a:xfrm>
            <a:off x="7097760" y="405288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Овал 15"/>
          <p:cNvSpPr/>
          <p:nvPr/>
        </p:nvSpPr>
        <p:spPr>
          <a:xfrm flipH="1">
            <a:off x="8876520" y="4437000"/>
            <a:ext cx="82548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6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9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0" name="Овал 10"/>
          <p:cNvSpPr/>
          <p:nvPr/>
        </p:nvSpPr>
        <p:spPr>
          <a:xfrm>
            <a:off x="8034480" y="240192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Овал 13"/>
          <p:cNvSpPr/>
          <p:nvPr/>
        </p:nvSpPr>
        <p:spPr>
          <a:xfrm>
            <a:off x="8418600" y="4030560"/>
            <a:ext cx="93816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Овал 15"/>
          <p:cNvSpPr/>
          <p:nvPr/>
        </p:nvSpPr>
        <p:spPr>
          <a:xfrm flipH="1">
            <a:off x="10119600" y="441324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до 14 лет (строка 1 графа 5 таблица 1000) необходимо указать число первобеременных (графа 1) – число в этой графе должно быть меньше, чем в строке 1 графе 5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55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6" name="Овал 10"/>
          <p:cNvSpPr/>
          <p:nvPr/>
        </p:nvSpPr>
        <p:spPr>
          <a:xfrm>
            <a:off x="8805960" y="490680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144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до 14 лет  (графа 2) – число в этой графе должно быть меньше, чем в строке 1 графе 5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1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2" name="Овал 10"/>
          <p:cNvSpPr/>
          <p:nvPr/>
        </p:nvSpPr>
        <p:spPr>
          <a:xfrm>
            <a:off x="10334520" y="4917960"/>
            <a:ext cx="7891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15-17 лет (строка 1 графа 6 таблица 1000) необходимо указать число первобеременных (графа 1) – число в этой графе должно быть меньше, чем в строке 1 графе 6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7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8" name="Овал 10"/>
          <p:cNvSpPr/>
          <p:nvPr/>
        </p:nvSpPr>
        <p:spPr>
          <a:xfrm>
            <a:off x="880596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Овал 13"/>
          <p:cNvSpPr/>
          <p:nvPr/>
        </p:nvSpPr>
        <p:spPr>
          <a:xfrm>
            <a:off x="7994520" y="1792440"/>
            <a:ext cx="8114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2338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15-17лет  (графа 2) – число в этой графе должно быть меньше, чем в строке 1 графе 6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73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10"/>
          <p:cNvSpPr/>
          <p:nvPr/>
        </p:nvSpPr>
        <p:spPr>
          <a:xfrm>
            <a:off x="10425240" y="5261040"/>
            <a:ext cx="78732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Овал 15"/>
          <p:cNvSpPr/>
          <p:nvPr/>
        </p:nvSpPr>
        <p:spPr>
          <a:xfrm flipH="1">
            <a:off x="10424520" y="1792440"/>
            <a:ext cx="649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2360" y="868320"/>
            <a:ext cx="316224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Число в т2100г1 должно быть не больше числа в т2000с4г4, число в т2100г2 тоже должно быть не больше числа в т2000с4г4 и меньше числа в т2100г1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т2100 – аборты до 14 лет вкл. только по медицинским показаниям!!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таблицы 2100 не более числа из т2000с4г6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2101г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числа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2000с4г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9" name="Овал 10"/>
          <p:cNvSpPr/>
          <p:nvPr/>
        </p:nvSpPr>
        <p:spPr>
          <a:xfrm>
            <a:off x="1042524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Объект 3" descr=""/>
          <p:cNvPicPr/>
          <p:nvPr/>
        </p:nvPicPr>
        <p:blipFill>
          <a:blip r:embed="rId1"/>
          <a:stretch/>
        </p:blipFill>
        <p:spPr>
          <a:xfrm>
            <a:off x="3643200" y="849240"/>
            <a:ext cx="8548920" cy="5121360"/>
          </a:xfrm>
          <a:prstGeom prst="rect">
            <a:avLst/>
          </a:prstGeom>
          <a:ln w="0">
            <a:noFill/>
          </a:ln>
        </p:spPr>
      </p:pic>
      <p:sp>
        <p:nvSpPr>
          <p:cNvPr id="283" name="Овал 9"/>
          <p:cNvSpPr/>
          <p:nvPr/>
        </p:nvSpPr>
        <p:spPr>
          <a:xfrm>
            <a:off x="8207280" y="4336920"/>
            <a:ext cx="820800" cy="298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Овал 11"/>
          <p:cNvSpPr/>
          <p:nvPr/>
        </p:nvSpPr>
        <p:spPr>
          <a:xfrm flipH="1">
            <a:off x="7093800" y="244800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Овал 12"/>
          <p:cNvSpPr/>
          <p:nvPr/>
        </p:nvSpPr>
        <p:spPr>
          <a:xfrm>
            <a:off x="10733040" y="4437000"/>
            <a:ext cx="822240" cy="298440"/>
          </a:xfrm>
          <a:prstGeom prst="ellipse">
            <a:avLst/>
          </a:prstGeom>
          <a:solidFill>
            <a:srgbClr val="2791a6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Овал 14"/>
          <p:cNvSpPr/>
          <p:nvPr/>
        </p:nvSpPr>
        <p:spPr>
          <a:xfrm flipH="1">
            <a:off x="7201800" y="2448000"/>
            <a:ext cx="824040" cy="384120"/>
          </a:xfrm>
          <a:prstGeom prst="ellipse">
            <a:avLst/>
          </a:prstGeom>
          <a:noFill/>
          <a:ln w="28440">
            <a:solidFill>
              <a:srgbClr val="2791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Овал 18"/>
          <p:cNvSpPr/>
          <p:nvPr/>
        </p:nvSpPr>
        <p:spPr>
          <a:xfrm>
            <a:off x="9469440" y="4586400"/>
            <a:ext cx="822240" cy="298440"/>
          </a:xfrm>
          <a:prstGeom prst="ellipse">
            <a:avLst/>
          </a:prstGeom>
          <a:solidFill>
            <a:srgbClr val="7030a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Овал 19"/>
          <p:cNvSpPr/>
          <p:nvPr/>
        </p:nvSpPr>
        <p:spPr>
          <a:xfrm flipH="1">
            <a:off x="8133480" y="2457360"/>
            <a:ext cx="908280" cy="317520"/>
          </a:xfrm>
          <a:prstGeom prst="ellips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Овал 20"/>
          <p:cNvSpPr/>
          <p:nvPr/>
        </p:nvSpPr>
        <p:spPr>
          <a:xfrm>
            <a:off x="8304120" y="4992840"/>
            <a:ext cx="822240" cy="298440"/>
          </a:xfrm>
          <a:prstGeom prst="ellipse">
            <a:avLst/>
          </a:prstGeom>
          <a:solidFill>
            <a:srgbClr val="92d05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Овал 21"/>
          <p:cNvSpPr/>
          <p:nvPr/>
        </p:nvSpPr>
        <p:spPr>
          <a:xfrm flipH="1">
            <a:off x="7012080" y="2481120"/>
            <a:ext cx="907920" cy="317520"/>
          </a:xfrm>
          <a:prstGeom prst="ellipse">
            <a:avLst/>
          </a:prstGeom>
          <a:noFill/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1,04+13,2000,1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6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7,04+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2000,7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1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дует проводить с отчетной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4 000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трок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4.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по поводу внематочной беременности (раздел  3. «Хирургическая работа организации»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блема абортов тесно связана с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контрацепцией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 Поэтому следует обратить внимание на операции по поводу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женщин ( форма № 14 таблица 4 000 Раздел 3.«Хирургическая работа организации» строка 13.4  графа 3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-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заполняется полностью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 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40bad2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Объект 4" descr=""/>
          <p:cNvPicPr/>
          <p:nvPr/>
        </p:nvPicPr>
        <p:blipFill>
          <a:blip r:embed="rId1"/>
          <a:stretch/>
        </p:blipFill>
        <p:spPr>
          <a:xfrm>
            <a:off x="3614760" y="1523880"/>
            <a:ext cx="7991280" cy="46515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360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ервичная учетная медицинская документация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ontent Placeholder 3" descr=""/>
          <p:cNvPicPr/>
          <p:nvPr/>
        </p:nvPicPr>
        <p:blipFill>
          <a:blip r:embed="rId1"/>
          <a:stretch/>
        </p:blipFill>
        <p:spPr>
          <a:xfrm>
            <a:off x="3181320" y="609480"/>
            <a:ext cx="8236080" cy="57484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Форма № 1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Footer Placeholder 18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 аборты у девочек в возрасте до 14 лет вкл. считаются как аборты по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медицинским показаниям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в силу физиологической незрелости организма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На каждый случай аборта у девочек до 14 лет вкл. представляется пояснительная записка: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 отчету прилагается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пояснительня запис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 обязательным распределением числа абортов у детей до 14 лет (включительно) по возрастам: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Фамилия, имя, отчество пациентк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ата рождения, возраст на момент поступления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Номер первичной медицинской документаци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Медицинская организация, направившая на госпитализацию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иагноз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Код по МКБ-10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: беременность с абортивным исходом в срок до 12 недель.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8" name="Объект 2" descr=""/>
          <p:cNvPicPr/>
          <p:nvPr/>
        </p:nvPicPr>
        <p:blipFill>
          <a:blip r:embed="rId1"/>
          <a:stretch/>
        </p:blipFill>
        <p:spPr>
          <a:xfrm>
            <a:off x="3603600" y="868320"/>
            <a:ext cx="7726320" cy="5145120"/>
          </a:xfrm>
          <a:prstGeom prst="rect">
            <a:avLst/>
          </a:prstGeom>
          <a:ln w="0">
            <a:noFill/>
          </a:ln>
        </p:spPr>
      </p:pic>
      <p:sp>
        <p:nvSpPr>
          <p:cNvPr id="199" name="Овал 10"/>
          <p:cNvSpPr/>
          <p:nvPr/>
        </p:nvSpPr>
        <p:spPr>
          <a:xfrm>
            <a:off x="6886440" y="1839960"/>
            <a:ext cx="75564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Овал 13"/>
          <p:cNvSpPr/>
          <p:nvPr/>
        </p:nvSpPr>
        <p:spPr>
          <a:xfrm>
            <a:off x="7621560" y="1839960"/>
            <a:ext cx="2505240" cy="29376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Овал 15"/>
          <p:cNvSpPr/>
          <p:nvPr/>
        </p:nvSpPr>
        <p:spPr>
          <a:xfrm>
            <a:off x="6988320" y="2133720"/>
            <a:ext cx="617400" cy="9712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668760" y="867960"/>
            <a:ext cx="771048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Беременность с абортивным исходом в срок до 12 недель (О00-О06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668760" y="2776320"/>
            <a:ext cx="762480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Исключена продолжающаяся беременность при многоплодном зачатии после аборта одного или более чем одного плода (О31.1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Саша</cp:lastModifiedBy>
  <cp:lastPrinted>2018-12-10T14:36:03Z</cp:lastPrinted>
  <dcterms:modified xsi:type="dcterms:W3CDTF">2018-12-11T23:38:29Z</dcterms:modified>
  <cp:revision>61</cp:revision>
  <dc:subject/>
  <dc:title>Презентация PowerPoint</dc:title>
</cp:coreProperties>
</file>