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4F3B-B414-45C6-9586-FD467807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A972-2690-43C7-8890-EC8D8363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7195-003C-4EB1-B931-0809B1BC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A214-9536-4AD0-BB7C-C4D38E05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7A21-265F-4C23-AB8F-5AD60DCA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B8D9-6B56-4587-B747-4EFE0D6C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7103-8065-4785-B19E-9F13F43C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CA45-CFD3-4AAC-868F-F5D82240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0E3A-39F2-4D57-9C6A-C6B4E786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7CAD-0000-4F82-B69B-EF1C204B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650A-536A-4807-96CF-98E3D1DB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2365-BDE7-4E67-9988-9CDAF71A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AC4A-03A6-4473-965F-3B58B41A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D0F0-491D-4ECB-AF09-707C6237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74CE-6916-463C-BFF3-FBC2AD88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B2FE-5552-432E-A5BC-AA3B35FA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B44D-7FDD-4AC2-815F-6C04F1C9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1450F3-76CC-4597-BE7D-F4FE941E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DA8D73-8B54-4A29-81B1-9CDA6B5F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708D98-3D26-4CA8-A95A-49BAE41B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ADE914-70AC-425D-AB1B-94537B1D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4C0560-974A-42F5-B2B1-7C5E7BAC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BD79-7821-40CB-A510-15C2C67D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50D590-134F-45B5-8874-41CF5096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698FBA-C327-457C-B680-32359FA7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587AA1-34F0-4066-9840-BC1DD437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1C5563-6724-49B2-8E81-DFD9584E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D72758-B70A-4115-BD5D-C92E7387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1F65EF-A48D-4BEB-BB56-F807E3AF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3CB447-BD38-4B72-B3F3-61C6AA5E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58FCF-BDD3-4A6E-A99B-CC205EF9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E8969-C52F-4244-B357-2153D14C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9EDB4-E4A2-4D8E-BACC-0C0195EA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D0A2-9374-469A-8E94-A2594A06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CA226-A314-4A70-A957-F0D00E79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B0217-8EA0-4796-8343-A63B16D4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5D053-1F53-41F5-BEF0-39D54482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BD666-B291-4430-A05F-DD7E3E63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CB7F2-494C-4549-BC35-F02533B8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C1229-6265-4F5E-B395-9C1707CE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AC9F2-8ECB-473B-9695-335CE5E3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8C7C7-3F71-4904-93C5-3D407447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05477-FEB0-43A2-B84C-C00B0627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3245-B834-42F4-9B12-30285D49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BC67-86F9-4DA8-8D5B-F32ADED8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073E-35CA-4253-AA08-19901A93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A0C8-465B-47F1-94A9-A8D4CB30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F974-5D9D-4078-884B-098799E3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0FD4-D897-4451-8316-013A050FD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0926-A01E-4BE4-8541-BA17B5F5F0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7050-0D23-44DE-9014-B7E7D94C24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EEC5-8446-4A4D-BD25-7CCD85809D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424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РАЗДЕ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«ПАТОЛОГИЧЕСКАЯ АНАТОМ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ФОРМЫ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14 и 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Таблица 3" descr=""/>
          <p:cNvPicPr/>
          <p:nvPr/>
        </p:nvPicPr>
        <p:blipFill>
          <a:blip r:embed="rId1"/>
          <a:stretch/>
        </p:blipFill>
        <p:spPr>
          <a:xfrm>
            <a:off x="281160" y="1292400"/>
            <a:ext cx="8581680" cy="38653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"/>
          <p:cNvSpPr/>
          <p:nvPr/>
        </p:nvSpPr>
        <p:spPr>
          <a:xfrm>
            <a:off x="0" y="-468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Структура прижизненных патологоанатомических и цитологических диагностических исследований по категориям сл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(5501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– НЕ ЗАПОЛНЯТЬ!!!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142920" y="5667480"/>
            <a:ext cx="9001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395280" y="1197000"/>
            <a:ext cx="777708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7"/>
          <p:cNvSpPr/>
          <p:nvPr/>
        </p:nvSpPr>
        <p:spPr>
          <a:xfrm flipH="1">
            <a:off x="684360" y="1197000"/>
            <a:ext cx="799128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(5502 и 5505)</a:t>
            </a:r>
            <a:r>
              <a:rPr b="0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- ЗАПОЛНЯТЬ!!!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ды по ОКЕИ:   единица – 6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исло обслуживаемых медицинских организаций по исследованиям биопсийного и операционного материала 1 __________ , из ни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ицинских организаций, оказывающих медицинскую помощь в амбулаторных условиях 2 __________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исло обслуживаемых медицинских организаций по исследованиям цитологического материала 3 ___________ , 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ицинских организаций, оказывающих медицинскую помощь в амбулаторных условиях 4 __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Форма 30, таблица 5503</a:t>
            </a:r>
            <a:br>
              <a:rPr sz="36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«посмертные патологоанатомические исследования (вскрытия)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58560" y="1915920"/>
            <a:ext cx="8785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полняется строго на основе проведенн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патологоанатомических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вскрытий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разбивкой по категориям сложности: на мониторинге МЗ ЗК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каз № 601 от 06.12.2017 г. «О совершенствовании организации посмертного патологоанатомического исследования (вскрытия) в медицинских организациях Забайкальского края» - утверждён перечень категорий сложности патологоанатомических вскрыт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79280" y="260280"/>
          <a:ext cx="8721720" cy="6621480"/>
        </p:xfrm>
        <a:graphic>
          <a:graphicData uri="http://schemas.openxmlformats.org/drawingml/2006/table">
            <a:tbl>
              <a:tblPr/>
              <a:tblGrid>
                <a:gridCol w="4184640"/>
                <a:gridCol w="514440"/>
                <a:gridCol w="515880"/>
                <a:gridCol w="488880"/>
                <a:gridCol w="489240"/>
                <a:gridCol w="487080"/>
                <a:gridCol w="490680"/>
                <a:gridCol w="485640"/>
                <a:gridCol w="1065240"/>
              </a:tblGrid>
              <a:tr h="547920"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вскр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атегориям сложности (из графы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из гр.3 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не медицинских организаций, оказывающих медицинскую помощь 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вскрытий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47920">
                <a:tc>
                  <a:txBody>
                    <a:bodyPr lIns="43560" rIns="435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0–17 лет включительно)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, умерших в возрасте 0–6 су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одившихся в с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и 22-27 нед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7 дней – 11 месяцев 29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–4 года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5–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5–1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ц в трудоспособном возрасте (жен.: 18–54 г. включительно;  муж.: 18–59 лет включите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ц в возрасте старше трудоспособ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мерт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ертворожденных при сроке беремен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–27 недел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ды на сроке менее 22 недель берем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20" name="Oval 178"/>
          <p:cNvSpPr/>
          <p:nvPr/>
        </p:nvSpPr>
        <p:spPr>
          <a:xfrm>
            <a:off x="4427640" y="2060640"/>
            <a:ext cx="360360" cy="2887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79"/>
          <p:cNvSpPr/>
          <p:nvPr/>
        </p:nvSpPr>
        <p:spPr>
          <a:xfrm>
            <a:off x="4427640" y="2421000"/>
            <a:ext cx="360360" cy="2872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80"/>
          <p:cNvSpPr/>
          <p:nvPr/>
        </p:nvSpPr>
        <p:spPr>
          <a:xfrm flipV="1">
            <a:off x="4427640" y="6524640"/>
            <a:ext cx="369720" cy="33336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81"/>
          <p:cNvSpPr/>
          <p:nvPr/>
        </p:nvSpPr>
        <p:spPr>
          <a:xfrm>
            <a:off x="4427640" y="5877000"/>
            <a:ext cx="360360" cy="2174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бы заполнить таблицу 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5503 и ф. 14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Вам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Составить списки умерших с град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для Вашего удобства в работе – лучше в форм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блицы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возрастной групп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трудоспособный, не трудоспособный,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классам МК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наличию/отсутствию патологоанатомического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крытия с указанием сличения диагнозов и      категории сложности каждой аутоп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составленным спискам -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ЗАБЛАГОВРЕМЕННО сверить данные по вскрытиям с         ПАТОЛОГОАНАТОМАМИ !!!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Например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№ 1. Трудоспособный возра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484280"/>
          <a:ext cx="8229600" cy="5181480"/>
        </p:xfrm>
        <a:graphic>
          <a:graphicData uri="http://schemas.openxmlformats.org/drawingml/2006/table">
            <a:tbl>
              <a:tblPr/>
              <a:tblGrid>
                <a:gridCol w="442800"/>
                <a:gridCol w="1584360"/>
                <a:gridCol w="1150920"/>
                <a:gridCol w="1368360"/>
                <a:gridCol w="2232360"/>
                <a:gridCol w="1450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Ф.И.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умерш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Вскрыт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без 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Код МКБ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Диагн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(кратко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Сличение диагнозов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Категория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ванов Павел Петр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ры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А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вусторонняя пневмония не уточненной этиолог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Расхожден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категория сложност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рков Иван Семенови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 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ходжкинская лимфом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саева Анн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силь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М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вскры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Щифр МКБ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пая травма живо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Например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блица № 2. Не трудоспособный возра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57200" y="1600200"/>
          <a:ext cx="8229600" cy="5102280"/>
        </p:xfrm>
        <a:graphic>
          <a:graphicData uri="http://schemas.openxmlformats.org/drawingml/2006/table">
            <a:tbl>
              <a:tblPr/>
              <a:tblGrid>
                <a:gridCol w="442800"/>
                <a:gridCol w="1584360"/>
                <a:gridCol w="1150920"/>
                <a:gridCol w="1368360"/>
                <a:gridCol w="2232360"/>
                <a:gridCol w="1450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Ф.И.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умерш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Вскрыт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без 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Код МКБ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Диагн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(кратко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Сличение диагнозов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Категория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син Павел Иван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ры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1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вусторонняя пневмония не уточненной этиолог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Совпа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категория слож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трова Ирина Семенов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ры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вторный ишемический инсуль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злов Петр Петр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М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вскры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Щифр МКБ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ножественные ножевые ра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4358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Таблица 2402 – умершие на до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79280" y="836640"/>
          <a:ext cx="8785440" cy="5789520"/>
        </p:xfrm>
        <a:graphic>
          <a:graphicData uri="http://schemas.openxmlformats.org/drawingml/2006/table">
            <a:tbl>
              <a:tblPr/>
              <a:tblGrid>
                <a:gridCol w="1297080"/>
                <a:gridCol w="828720"/>
                <a:gridCol w="1063440"/>
                <a:gridCol w="1062360"/>
                <a:gridCol w="1063440"/>
                <a:gridCol w="1062000"/>
                <a:gridCol w="1111320"/>
                <a:gridCol w="1297080"/>
              </a:tblGrid>
              <a:tr h="679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ь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тологоанато-мические вскр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из графы 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ебно-медицинские вскр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шие на дому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де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спосо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ше трудоспособ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числа умерших на дому: пациенты трудоспособного возраста* умерли от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х цереброваскуля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х заболевание (160-164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строго инфаркта миокарда (12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КОНТАКТЫ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(в течение рабочего дня)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едующая отделением общей и инфекционной патологии (г. Чита) – Гончарова Марина Александровн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1-43-02; 8-914-490-90-9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ский сектор (г. Чита) – Золотухина Анастасия Олег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1-42-98; 8-914-464-71-54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нокаменское ПаО – Шлапаков Вадим Викторович и Плакущая Надежда Владимировн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914-502-34-94; 8-914-145-23-7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едующая Первомайским ПаО – Старнавская Наталья Николае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914-512-42-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ФОРМА 14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СТАВ БОЛЬНЫХ В СТАЦИОНАРЕ, СРОКИ И ИСХОДЫ ЛЕ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лбцы № 8; 9 и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 классам МКБ-Х необходимо заполнить три табличных формы (2000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зрослый возра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8 лет и старш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е трудоспособный возра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женщины 55 дет, мужчины 60 лет и старш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Де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т 0 до 17 лет включ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ФОРМА 14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СТАВ БОЛЬНЫХ В СТАЦИОНАРЕ, СРОКИ И ИСХОДЫ ЛЕ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лбцы № 8; 9 и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8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мерло ВСЕГ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лассам МКБ-10 показываем всю летальность, наступившую в стационаре,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включая классы «внешние причины смерти» (СМЭ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9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проведено патологоанатомических вскрыти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лассам МКБ показываем умерших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двергнутых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ПАТОЛОГОАНАТОМИЧЕСКОМУ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скрытию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!!!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е включая умерших от «внешних причин смерти» (СМЭ!!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10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установлено расхождений диагноз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по классам МКБ - количество расхождений (без учёта категории расхождения диагноза),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из числа умерших, подвергнутых патологоанатомическому вскрыт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179280" y="620640"/>
          <a:ext cx="8785440" cy="5924520"/>
        </p:xfrm>
        <a:graphic>
          <a:graphicData uri="http://schemas.openxmlformats.org/drawingml/2006/table">
            <a:tbl>
              <a:tblPr/>
              <a:tblGrid>
                <a:gridCol w="3246480"/>
                <a:gridCol w="924120"/>
                <a:gridCol w="1019160"/>
                <a:gridCol w="988920"/>
                <a:gridCol w="1373040"/>
                <a:gridCol w="1233720"/>
              </a:tblGrid>
              <a:tr h="142920"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зрослые 18 лет и стар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64800" rIns="6480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44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л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идной, кроветворной и родств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1"/>
          <p:cNvSpPr/>
          <p:nvPr/>
        </p:nvSpPr>
        <p:spPr>
          <a:xfrm>
            <a:off x="179280" y="112680"/>
            <a:ext cx="8572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ВОЗРАСТ – СТАЦИОНАРНАЯ ЛЕТАЛЬНОСТЬ   (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00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684360" y="201240"/>
            <a:ext cx="77864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Е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ТРУДОСПОСОБНЫЙ ВОЗРА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836640"/>
          <a:ext cx="8713800" cy="5837040"/>
        </p:xfrm>
        <a:graphic>
          <a:graphicData uri="http://schemas.openxmlformats.org/drawingml/2006/table">
            <a:tbl>
              <a:tblPr/>
              <a:tblGrid>
                <a:gridCol w="3221280"/>
                <a:gridCol w="914400"/>
                <a:gridCol w="1012680"/>
                <a:gridCol w="981000"/>
                <a:gridCol w="1362240"/>
                <a:gridCol w="1222200"/>
              </a:tblGrid>
              <a:tr h="404640"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 старше  трудоспособного 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(с 55 лет у женщин и с 60 лет у мужчи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0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2480" rIns="4248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00-Т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болез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84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836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лим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идной, кроветворной и родственных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тка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с расщепленным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ми  (диффузная) неходжкинска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клеточная (диффуз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324000" y="928800"/>
          <a:ext cx="8569080" cy="5716440"/>
        </p:xfrm>
        <a:graphic>
          <a:graphicData uri="http://schemas.openxmlformats.org/drawingml/2006/table">
            <a:tbl>
              <a:tblPr/>
              <a:tblGrid>
                <a:gridCol w="3020760"/>
                <a:gridCol w="733680"/>
                <a:gridCol w="863280"/>
                <a:gridCol w="986040"/>
                <a:gridCol w="988920"/>
                <a:gridCol w="988920"/>
                <a:gridCol w="987480"/>
              </a:tblGrid>
              <a:tr h="217440"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Дети (в возрасте 0-17 лет включительн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6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идной, кроветворной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ственных им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с расщепленны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ми  (диффузная) неходжкинск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бласт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Rectangle 1"/>
          <p:cNvSpPr/>
          <p:nvPr/>
        </p:nvSpPr>
        <p:spPr>
          <a:xfrm>
            <a:off x="714240" y="153360"/>
            <a:ext cx="778680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Форма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аблица 55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«Прижизненные патологоанатомические исследования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не заполня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аблица 5501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уктура прижизненных патологоанатомических и цитологических диагностических исследований по категориям сложности» - </a:t>
            </a: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не заполня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357120" y="1195560"/>
          <a:ext cx="8358120" cy="5607000"/>
        </p:xfrm>
        <a:graphic>
          <a:graphicData uri="http://schemas.openxmlformats.org/drawingml/2006/table">
            <a:tbl>
              <a:tblPr/>
              <a:tblGrid>
                <a:gridCol w="5840640"/>
                <a:gridCol w="502920"/>
                <a:gridCol w="1008360"/>
                <a:gridCol w="1006200"/>
              </a:tblGrid>
              <a:tr h="914400"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ны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патологоанатомические исследова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патологоанато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патологоанато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исследованных после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гистохимические диагностические исследова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гистохимические диагностические исслед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гистохи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иммуногистохимические диагностические исследова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иммуногистохимические диагност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иммуногистохи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Rectangle 1"/>
          <p:cNvSpPr/>
          <p:nvPr/>
        </p:nvSpPr>
        <p:spPr>
          <a:xfrm>
            <a:off x="428760" y="43560"/>
            <a:ext cx="87865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Форма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9. Деятельность патологоанатомического бюро (отдел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жизненные патологоанатомические диагностические исследования операционного и биопсийного материа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                                            </a:t>
            </a:r>
            <a:r>
              <a:rPr b="1" lang="ru-RU" sz="1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(5500</a:t>
            </a:r>
            <a:r>
              <a:rPr b="1" lang="ru-RU" sz="1600" spc="-1" strike="noStrike">
                <a:solidFill>
                  <a:srgbClr val="cc0000"/>
                </a:solidFill>
                <a:latin typeface="Arial Black"/>
              </a:rPr>
              <a:t> – НЕ ЗАПОЛНЯТЬ!!!)</a:t>
            </a:r>
            <a:r>
              <a:rPr b="0" lang="ru-RU" sz="1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89"/>
          <p:cNvSpPr/>
          <p:nvPr/>
        </p:nvSpPr>
        <p:spPr>
          <a:xfrm>
            <a:off x="179280" y="1125360"/>
            <a:ext cx="8713800" cy="5543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0"/>
          <p:cNvSpPr/>
          <p:nvPr/>
        </p:nvSpPr>
        <p:spPr>
          <a:xfrm flipH="1">
            <a:off x="179280" y="907920"/>
            <a:ext cx="8640720" cy="5761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214200" y="714240"/>
          <a:ext cx="8715600" cy="6088320"/>
        </p:xfrm>
        <a:graphic>
          <a:graphicData uri="http://schemas.openxmlformats.org/drawingml/2006/table">
            <a:tbl>
              <a:tblPr/>
              <a:tblGrid>
                <a:gridCol w="6089760"/>
                <a:gridCol w="525600"/>
                <a:gridCol w="1050840"/>
                <a:gridCol w="1049400"/>
              </a:tblGrid>
              <a:tr h="427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генетические диагностические исслед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генетические диагност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генет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молекулярно-биологические диагностические исслед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молекулярно-би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молекулярно-би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прижизненные дополнительные специальны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очие прижизненные дополнительные специальны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другие прижизненные дополнительные специальны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цитологически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цитологически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цит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Line 91"/>
          <p:cNvSpPr/>
          <p:nvPr/>
        </p:nvSpPr>
        <p:spPr>
          <a:xfrm>
            <a:off x="250920" y="404640"/>
            <a:ext cx="8642160" cy="6120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2"/>
          <p:cNvSpPr/>
          <p:nvPr/>
        </p:nvSpPr>
        <p:spPr>
          <a:xfrm flipH="1">
            <a:off x="468000" y="333360"/>
            <a:ext cx="8280360" cy="62643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3"/>
          <p:cNvSpPr/>
          <p:nvPr/>
        </p:nvSpPr>
        <p:spPr>
          <a:xfrm>
            <a:off x="3131640" y="160200"/>
            <a:ext cx="27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Не запол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й</dc:creator>
  <dc:description/>
  <dc:language>en-US</dc:language>
  <cp:lastModifiedBy>User</cp:lastModifiedBy>
  <dcterms:modified xsi:type="dcterms:W3CDTF">2018-12-20T08:33:40Z</dcterms:modified>
  <cp:revision>68</cp:revision>
  <dc:subject/>
  <dc:title>Слайд 1</dc:title>
</cp:coreProperties>
</file>