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2559-DA02-44C2-AA90-D4C2657D39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1631-82AB-49F9-A1CE-61501EDBF8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3A18-89CD-4BF3-99D1-4075E2EF60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D404-C4B7-4EDE-91C5-D4B098BAA0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B371-B647-468F-B5F9-2C1D3D8441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1B5-0773-4A2E-B3F7-A5BD2670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73D-598A-432F-AD84-BAE34247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BAB-123D-4D39-AB42-356ECE8E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EE0-001D-40EC-9CC9-6F627F82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8E61-85D0-4544-ADC4-E540BB3E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C938-40C7-4629-920B-325CF254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BAFF-248B-444B-B297-333B99EC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3716-AB5C-4F8D-8414-CBC2D26A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9BC6-CF36-467F-866A-8B664F25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8BCF-4FAF-475A-8E42-E6B0D0C5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4AFA-AFF6-44C1-8FD0-F65CF4CB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262-F5BC-4FDD-9F98-BCD29855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8B45-DCBA-4D85-B64D-8796426D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AA04-9542-48AB-8F95-15E11156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7C0B-D2D0-49D3-BFF3-8A60B27A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733E-7B49-4652-911C-4CD8845B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7125-AC5B-4D67-A07D-E175880C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1F6-D7D6-432A-A1C9-5F303A07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C06-F7C0-49DF-A4B2-56CE5624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B54-6889-4CE8-AB81-7DB9F3CA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F12-03D5-43E1-93DC-07D4158F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153-B6D3-429E-9EF5-A2E1E0A2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E4F-6B0D-47C2-9574-1BE8C509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A3E-8927-49DE-A10F-91C2845E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>
              <a:gd name="textAreaLeft" fmla="*/ 0 w 9037800"/>
              <a:gd name="textAreaRight" fmla="*/ 9038160 w 9037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A7AC-E131-490F-9964-835DF5FBA0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1997-0071-4EA0-9A89-1EC1424650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 за 2018 год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тьяна Анатольевна Макс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лавный внештатный специалист по проблемам диагностики и лечения ВИЧ – инфекции Минздрава Забайкаль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928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 №61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. Пр. Росстата №672 от 30.12.20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жгодовой контроль 2017/201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19700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61: таблица 2000 1гр, 04ст отчетного год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е 61 таблицы 1000, 12гр, 19ст предыдущего года + форма 61, 2000, 1гр, ст 05+07+09 отчетного года –форма 61 2000, 1гр, 10 ст отчетно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61: 2000 таблица, 8гр, 04 ст отчетного год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1, 1000, 13гр , 19ст предыдущего года + форма 61, 2000, 8гр, ст 05+07+09 отчетного года – 2000, 8гр, ст10 отчетного 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0BD8-4DCB-4F16-AD43-EA0E806CEC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kkib.sibhos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4FAE-245F-4B69-976F-260D373F6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только тех лиц, которые были обследованы на антитела к ВИЧ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дицинских организациях, относящихся к Минздраву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, графа 2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 контроля: строка 1, графа 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=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рафе.3 (В20-24) +графе.4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пускается, что сумма граф. 2+3 может быть меньше графа.2 только на число пациентов, выявленных в течение 1-го месяца (декабрь текущего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6203-1AD4-464F-A6FF-A68B798F5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836640"/>
            <a:ext cx="8300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 1+2, графы. 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. 3100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2, графы.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5+46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 47+4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таб.1000, строки.1+2, графы.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1-4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3-4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ки.49-5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51-5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BCF0-1189-403C-BC8D-D2E835130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.57- 60, графы.5-1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.57-5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. 59-6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аблицы.3100, строки.1, графы.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6B8C-D30A-45C9-8186-ACE191656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и. 1-8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таблицы.3100, строки.1, графы.3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ме посмертных случае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а. 10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.3100, строки.1, графы.4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а. 9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.1000, строк.57-58, графа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D9D5-60F7-4623-A61D-7DD3BE047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инические стад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2C5E-5369-4F6E-88B6-43B76278A5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3000 показываются только те пациенты с ВИЧ-инфекцие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торые были обслед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отчетном году – 201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A09D-BA2D-4408-912D-EF12A5D4B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троке 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число пациент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ИЧ-инфекцией с проявлениями Т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В20.0, В20.7, В22.7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мерших в отче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 всех причин, то есть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ды В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D9D7-37BC-4E57-94D0-CBA290D13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только те пациенты с ВИЧ-инфекцией, которы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и проле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текущем год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201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42DD-3DA3-4B93-A9F9-E89BD4DDA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Волошина ЛИ; Центр СПИД Чита</dc:creator>
  <dc:description/>
  <dc:language>en-US</dc:language>
  <cp:lastModifiedBy>Миргород</cp:lastModifiedBy>
  <dcterms:modified xsi:type="dcterms:W3CDTF">2018-12-20T05:02:31Z</dcterms:modified>
  <cp:revision>187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