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441-E47E-4389-9B6E-78E1DD32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639-D7E2-44B5-8470-4FA0D2EB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8C4-A482-416D-8D57-ED4E9033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8C8-6133-4265-B18D-155BFECC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611D-89C1-42E1-B0A9-557E996B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AB97-8336-4015-90D7-ECFD58EC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3892-261E-4C24-9F36-E977C25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B09D-953B-42F9-B854-F615C016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1FEB-2A3B-47D0-9B19-031A6D7E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CED7-BF4C-4678-A05C-C2F29BF5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C8FF-05F0-470D-A4EA-5DE6145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508-9634-451D-BA5B-C6B37F53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2879-FA16-4570-9695-8D304E03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C327-0CC2-443E-A9CD-D9CFF908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2785-94FB-4E58-9505-CAC4191D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219-1308-45AF-BBDD-C02CF13F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AA85-E045-49A6-A1E4-E8567E5E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C91-908E-47FF-8FD9-CF4896BB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51C-5CC4-4CEF-B157-80FDBC3D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85E-AE34-4ED0-9DA4-5C612D76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170-809A-4E97-87D5-C59E1A1C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C75-24AF-454A-89D5-79255DB0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A6C-F2B7-44AA-A395-73E898B9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2DB-5104-495B-ABE3-57D548C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2743-9EAD-44C9-AF9B-7FBE7211D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E86F-6D18-4608-A677-A17B28A1D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5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Формой №30-село,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ZavOtdel</cp:lastModifiedBy>
  <dcterms:modified xsi:type="dcterms:W3CDTF">2018-12-21T03:50:57Z</dcterms:modified>
  <cp:revision>74</cp:revision>
  <dc:subject/>
  <dc:title>Недочеты при составлении форм ФСН №№ 30,47,12. Сопоставление данных из разных форм с формами №№ 8 и 33</dc:title>
</cp:coreProperties>
</file>