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9FB8-051D-4440-B61D-18FFEF2FD44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18CF-AA2B-4AF8-8F85-2022AD7893C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556-CFC4-41AF-9897-AC70CB3B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CE7F-93A9-42D0-B845-A80BFE5C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26C-27E4-4851-B851-EC7B4488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355-EF64-4844-BD82-D0738E07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C662-F266-4838-8C6D-5735DC2F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54BD-0C30-497B-8D56-B99405BC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041-1BF8-47F1-B9AD-CDD34A3B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662-A6EB-4B97-ACC5-F72DEBA5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73D-35EE-4AF9-8B14-EAE990D4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431-251F-4F4F-AECD-5F68B84D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2385-297F-4321-8AD0-71BA9D19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0F1-B5FB-4C5C-AABF-0E9D1C9C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88C5-A79A-4B19-8591-FA3175F1504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ndchita.ru/" TargetMode="External"/><Relationship Id="rId3" Type="http://schemas.openxmlformats.org/officeDocument/2006/relationships/hyperlink" Target="http://www.kndchita.ru/" TargetMode="External"/><Relationship Id="rId4" Type="http://schemas.openxmlformats.org/officeDocument/2006/relationships/hyperlink" Target="http://www.kndchita.r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21120" y="5122800"/>
            <a:ext cx="4322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А. Бу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ститель главного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МР ГАУЗ «Забайкальский краевой наркологический диспанс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64960" y="1720800"/>
            <a:ext cx="852012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12800" y="191556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i?id=276645700-65-72&amp;n=21"/>
          <p:cNvPicPr/>
          <p:nvPr/>
        </p:nvPicPr>
        <p:blipFill>
          <a:blip r:embed="rId2"/>
          <a:stretch/>
        </p:blipFill>
        <p:spPr>
          <a:xfrm>
            <a:off x="441360" y="264960"/>
            <a:ext cx="1119240" cy="1033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264960" y="1219320"/>
            <a:ext cx="85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тч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о формам федерального статистического наблюд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№ </a:t>
            </a: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7 и №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817560"/>
            <a:ext cx="8350200" cy="62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новные принципы формирования т. 2100 ф. №37 с 2016 года изменены в соответствии с новым Порядком диспансерного наблюд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чиная с 2016 отчетного года в таблице 2100 ф. № 37 следует показывать только тех пациентов, которые состоят под диспансерным наблюдением у врача психиатра-нарко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т. 2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ся число наркологических пациентов, которые были взяты под ДН в течение отчетного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циенты с впервые в жизни установленным диагнозом наркологического расстро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веденные из других наркологических организ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овь обратившиеся с обострением  наркологического заболевания или иными причин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23EA-836F-4E46-9844-8CB40290A0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57200" y="0"/>
            <a:ext cx="8229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851040"/>
            <a:ext cx="83502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т. 2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пациентах, снятых с  ДН по причи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твержденная стойкая ремис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озможность обеспечить осмотр пациента, несмотря на все принимаемые меры, в течение 1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мерть паци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уждение пациента к лишению свободы на срок свыше 1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менение постоянного места жительства с выездом за пределы обслуживаемой террит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исьменного отказа пациента от Д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0678-2DED-4613-B272-3054466F30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851040"/>
            <a:ext cx="83502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очные алгоритмы проверки остаются без изменения по сравнению с 2015 годом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 межгодовой проверки по стр. 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.8 стр.11 2016 г. + гр.4 стр.11 2017 г. – гр.6 стр.11 2017 г. = гр.8 стр.11 2017 г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1E52-F369-4F12-A225-1E06FFE437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938160"/>
            <a:ext cx="83502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 с пациентами, которые на конец 2015 г. находились на проф. учете с диагнозом «пагубное употребление», не были осмотрены (сняты) в течение 2016 г. и были включены в гр.8 т. 2100 2016 г.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 следующие вариа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не явился на осмотр в 2017 г., снимается с наблюдения по одной из причин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гр.6 т. 2100 (снятые) не пок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смотрен в 2017 г. и дал согласие на ДН. Взят под ДН, включается в гр. 4 т.2100 (впервые в данном году) и в гр.8 т. 2100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включается в гр.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Пациент осмотрен в 2017 г., но не дал согласие на ДН.        Пациент снимается с учет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гр. 6 (снятые) не пок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5516-C757-4637-A935-023B0255D8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38160"/>
            <a:ext cx="83502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межформенная проверка т.2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№ 11 и т.2100 ф.№ 3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ациентов с впервые в жизни установленным диагнозом наркологического расстройства в т. 2000 ф. №11 по соответствуюшим диагностическим группам больше (на малых цифрах может быть равенство) числа пациентов, взятых под ДН (гр. 5 т. 2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№ 37)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02E6-74A8-4B9A-B075-E2216C356E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менение ранее действующих алгоритмов проверок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47440"/>
            <a:ext cx="835020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и движение пациентов, находящихся под ДН в стр. 6.1. ф. № 12, должно полностью соответствовать движению в таблице 2100 ф. № 37 !!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1707-0AF7-44AC-9B6E-F46D329472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0"/>
            <a:ext cx="82296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показывать пациен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оящих под ДН в ф. № 12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0" y="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Контакты:</a:t>
            </a: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: OMR-KND@yande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. 23-96-2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0" y="2619360"/>
            <a:ext cx="91440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Официальный сайт</a:t>
            </a:r>
            <a:br>
              <a:rPr sz="4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АУЗ «Забайкальский краевой наркологический диспансер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nd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ita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528480" y="961920"/>
            <a:ext cx="799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bolnica"/>
          <p:cNvPicPr/>
          <p:nvPr/>
        </p:nvPicPr>
        <p:blipFill>
          <a:blip r:embed="rId2"/>
          <a:stretch/>
        </p:blipFill>
        <p:spPr>
          <a:xfrm>
            <a:off x="2759040" y="3930480"/>
            <a:ext cx="35751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76040" y="144360"/>
            <a:ext cx="82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Благодарим!</a:t>
            </a: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39840" y="1771560"/>
            <a:ext cx="848340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ицинские организации здравоохранения, подведомственные Министерству здравоохранения Забайкальского края, отчеты которых в наибольшей степени удовлетворили требованиям составления ф.№ 11 и № 37 за 2016 г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Аг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Чит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Александрово-Завод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Калга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Калар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АУЗ «Краевая больница № 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Забайкаль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Оловянн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52440" y="176040"/>
            <a:ext cx="85010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Ошибки! Ошиб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о стат. форме №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Таблица 2100 «Контингенты пациентов, находящихся под наблюдением психиатра-нарколога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200 «Деятельность врачей, осуществляющих амбулаторную помощь пациентам наркологического профи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70 «Контингенты пациентов, проходивших обязательное или альтернативное амбулаторное лечение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500 «Наркологическое освидетельствование» (разница с формой № 30, табл. 251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о стат. форме №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Таблица 4000 «Обследование зарегистрированных пациентов на наличие гемоконтактных инфекц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5920" y="233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Актуальные формы ФСН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овый Порядок диспансерного наблюдения пациентов наркологического проф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256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ФСН утверждены приказом Росс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№ 410 от 16.10.2013 г. (формы № 11 и № 3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2016 году формы были адаптированны с учетом Приказа Минздрава России № 1034 от 13 декабря 2015 года, регламентирующего Порядок оказания медицинской помощи по профилю «психиатрия-наркология» и Порядок диспансерного наблюдения за лицами с психическими расстройствами и (или) расстройствами поведения, связанными с употреблением психоактив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314B-B641-43F0-B11E-75D32D41F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24000"/>
            <a:ext cx="8075520" cy="4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нимание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920" y="1042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рядо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ого наблюдения за л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сихическими расстройствами и (или) расстройствами поведения, связанными с употреблением психоактивных веществ, утвержденный Приказом № 1034 Минздрава России от 13 декабря 2015 го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л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онцепц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блюдения за пациентами с наркологическими расстройст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ятия «профилактическое наблюдение», «профилактический учет», «профилактическая группа» в новом Порядке отсутствую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пансерное наблюдение организуется как для пациентов с диагнозом «Синдром зависимости» (код заболевания по МКБ-106 – F1x.2), так и для пациентов с другими наркологическими расстройствами, включая  группу пациентов с диагнозом  «пагубное употребление ПАВ» (код заболевания по МКБ-10 – F1x.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пансерное наблюдение организуется только при наличии добровольного информированного согласия пациента в письменн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кратились сроки  прекращения диспансерного наблю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D172-8C41-4FB8-9B87-780F8B85D2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7360" y="232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орма №11</a:t>
            </a: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«Сведения о заболеваниях наркологическими расстройствам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4014360"/>
            <a:ext cx="8229600" cy="21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1 имеет в своем составе 3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0112-BF2F-4A71-B400-FB16E97AE2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45720"/>
            <a:ext cx="822960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осуществляется при первом в данном году обращении пациента за наркологической помощью (ф.№ 030-1/у-02, ф. № 025-1/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000 сведения показываются обо всех пациентах наркологического профиля, которым в течение отчетного года была оказана амбулаторная лечебная, консультативно-лечебная, реабилитационная помощ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регист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пациент в течение  отчетного года может быть зарегистрирован только с одним наркологическим заболеванием и только один раз показан в ф. № 11 (по заключительному диагноз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E4E5-7C37-4423-A8AC-F9CB6F0509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7360" y="2329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бследование зарегистрированных </a:t>
            </a:r>
            <a:br>
              <a:rPr sz="2800"/>
            </a:b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ациентов на наличие гемоконтактных инфекций (т. 4000 ф. № 11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52760"/>
            <a:ext cx="82296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ациенты, обратившиеся в течении года за амбулаторной наркологической помощью, должны быть обследованы на ВИЧ, гепатит С и гепатит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ИЧ-позитивные пациенты, находящиеся под диспансерным наблюдением в наркологическом учреждении, но по каким – либо причинам не были обследованы в отчетном году,  также должны быть показаны в т. 4000 ф. №11 как ВИЧ-позитив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649E-7512-4D0A-8D7C-32380354F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орма № 37</a:t>
            </a: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«Сведения о пациентах, больных алкоголизмом, наркоманиями, токсикоманиям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25124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37 (20 табли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5212-22FF-4E31-9759-1CF000FAC6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Admin</cp:lastModifiedBy>
  <dcterms:modified xsi:type="dcterms:W3CDTF">2017-12-12T02:42:05Z</dcterms:modified>
  <cp:revision>194</cp:revision>
  <dc:subject/>
  <dc:title>PowerPoint Template</dc:title>
</cp:coreProperties>
</file>