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7BB1-4C7D-465A-8062-36184D33F1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97DB-3E40-40FD-BE45-AD695419B5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F16A-A7D6-47EF-8A08-ADD172C51A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2B4B-F53D-4C19-AFD8-C963103DEF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552-3EE7-4219-A92F-F574690E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55CC-E569-453B-A8B8-91D269E6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D92-6608-4EDE-B6D3-B29D8744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C398-6E63-4A92-8D33-FE990F00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D4FA-4ADB-4545-A56A-81CE22F1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B221-E232-4F42-8040-C57A1041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2A6F-3E1B-4EF6-AB9D-1819697F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4DBF-AD4C-4467-A266-6CADD18C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3BAD-A74F-4150-AB8E-3C403952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E1E3-B069-43FD-B753-5D65FA82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745B-5E18-4108-9C2F-3134E1F0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1AB4-5600-4778-8D89-0D944913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7B9F-2465-4FFB-8D05-1FFA81FE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AE49-3B23-4755-B67B-2E5442DE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ED50-1C37-4AD4-AD4D-4AD1C413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864D-EB81-4AC1-B63D-757E6800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A54A-1CD2-4DD0-857E-E2D350CB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A8D-0D33-44F2-AE28-F683FBDB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CF5-D423-413E-B969-BB210D86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5B32-EB73-40B4-9ED4-98890CA8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8D8-989B-4FA1-A77A-612C6A65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1FE-AF49-4713-B626-7126B92E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5A0E-B4A3-479E-8CE5-93A20913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2F63-C615-4F9C-8273-FCDE1D23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/>
            <a:ahLst/>
            <a:rect l="l" t="t" r="r" b="b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/>
            <a:ahLst/>
            <a:rect l="l" t="t" r="r" b="b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/>
                <a:ahLst/>
                <a:rect l="l" t="t" r="r" b="b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/>
                <a:ahLst/>
                <a:rect l="l" t="t" r="r" b="b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/>
                <a:ahLst/>
                <a:rect l="l" t="t" r="r" b="b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0FE1-8150-4DA7-A4F8-EBB5BD22C4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F5A0-8A93-4887-AA19-9E15351E0D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13336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 за 2017 год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00000" y="4797000"/>
            <a:ext cx="70581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лошина Людмила Иннокент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рач статис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УЗ ККИБ обособленное подразде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«Центр профилактики и борьбы со СПИД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 Забайкальском кра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C846-C2DA-4A6C-8E34-C815F533B3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Rectangle 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904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867280" y="3284640"/>
            <a:ext cx="2590920" cy="1739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казываютс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лько те пациенты с ВИЧ-инфекцией, которые были пролечены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отчетном году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орма №61 </a:t>
            </a:r>
            <a:br>
              <a:rPr sz="24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в. Пр. Росстата №672 от 30.12.201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жгодовой контроль 20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/20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3860280"/>
            <a:ext cx="8229600" cy="25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1, 2000, 1, 04 отч. год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61, 1000, 12, 19 пред. года + 61, 2000, 1, 05+07+09 отч. года – 61, 2000, 1, 10 отч.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1, 2000, 8, 04 отч. год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61, 1000, 13, 19 пред. года + 61, 2000, 8, 05+07+09 отч. года – 2000, 8, 10 отч.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BB5C-FD27-4843-B046-3980B1B16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mai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й телефон: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1-03-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8593-EB43-4018-9BF4-E1E40F4ECC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Инструкция по составлению государственного статистического отчета №61«Сведения о болезни, вызванной вирусом иммунодефицита человека» Москва,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«Методические рекомендации по порядку статистического учета и кодирования болезни, вызванной вирусом иммунодефицита человека (ВИЧ) в статистике заболеваемости и смертности» утвержденные МЗ РФ 28.06.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Информационная система AIDS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 в себя только тех лиц, которые были обследованы на антитела к ВИЧ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екущем год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их организациях, относящихся к Минздраву России (центры СПИ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ока 1, графа 2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словия контроля: строка 1, графа 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gt;=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гр.3 (В20-24)+гр.4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 этом допускается, что сумма гр. 2+3 может быть меньше гр.2 только на число пациентов, выявленных в течение 1-го месяца (декабрь текущего 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2F56-7B69-4A91-9713-A7E4BF47C1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981000"/>
            <a:ext cx="8300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.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. 3100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2, гр.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о 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5+46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 47+4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 таб.1000, стр.1+2, гр.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1-4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3-4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р.49-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51-5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8883-CAB8-44FC-A3A8-A52812D23E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.57- 60, гр.5-1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57-5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центрах СП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 59-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таб.3100, стр.1, гр.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A08A-5D20-4D92-9412-12388BC43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Ф.61 таблица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Rectangle 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197920" cy="5832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140360" y="3573360"/>
            <a:ext cx="4572000" cy="228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1-8, гр.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3100, стр.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10, гр. 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31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р.1, гр.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9, гр. 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1000, стр. 57-58, гр.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линические стад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. 2000, гр. 4 и 10 формируют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б. 2000, гр. 4, стр. 1-8 = таб. 2000, гр. 10+гр.15, стр. 1-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б. 2000, гр. 10 стр. 1-8 = таб. 2000, гр. 11+гр.13+гр.14 стр. 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B17B-6FD3-4CE2-9384-AA2C243A00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889A-B971-4886-AC30-BBD6B5E295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Rectangle 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96000" cy="5977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796000" y="3573360"/>
            <a:ext cx="2665440" cy="201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таблице 3000 показываются только те пациенты с ВИЧ-инфекцией, которые бы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бследованы в отчетном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50F9-2360-4DBF-B0A4-3F4B932801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Rectangle 3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29600" cy="576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508720" y="3141720"/>
            <a:ext cx="3168720" cy="283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строке 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казывается число пациентов с ВИЧ-инфекцией с проявле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Б (коды В20.0, В 20.7, В 22.7), умерших в отчетном году от всех причин, 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ользуются коды В20-В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e.tsybikova</dc:creator>
  <dc:description/>
  <dc:language>en-US</dc:language>
  <cp:lastModifiedBy>Центр</cp:lastModifiedBy>
  <dcterms:modified xsi:type="dcterms:W3CDTF">2017-12-08T06:39:06Z</dcterms:modified>
  <cp:revision>186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